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4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5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7.gif" ContentType="image/gif"/>
  <Override PartName="/ppt/media/image3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2.png" ContentType="image/png"/>
  <Override PartName="/ppt/media/image20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png" ContentType="image/png"/>
  <Override PartName="/ppt/media/image17.gif" ContentType="image/gif"/>
  <Override PartName="/ppt/media/image29.png" ContentType="image/png"/>
  <Override PartName="/ppt/media/image21.jpeg" ContentType="image/jpeg"/>
  <Override PartName="/ppt/media/image22.png" ContentType="image/png"/>
  <Override PartName="/ppt/media/image18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7BA-F9F0-4C8A-939F-CB4F9B7C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05F-0A88-412A-9411-631A519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358-8D8C-4C93-B96A-BA0F37BC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029-40B8-4FA8-89C2-E0D017BB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6215-9732-4C84-8D9C-30C4083A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CE962-D80E-4D30-B554-0DD652E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BEDCA-5483-45FD-8F5A-8783751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8D8CB-9D4C-49EE-B40B-07872BB8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752DA-7DC8-40A6-B83A-E8F5BD4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7D30A-6EF2-48B4-B419-6F8C4C1B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C31E-7571-4660-83CE-AA8AC08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569-E5C6-40FB-AA1F-8CDF0238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791B4-1B04-453F-B5A6-1E3E544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2E8D-A15C-4183-81A1-2DEABFD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68798-215B-4284-93B8-2518091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A385-AD00-4E81-A558-274DD8CB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48719-206D-4603-BE93-529ED3DB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F1CE-6AF9-4A4C-B990-CDB6A2A3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C06B-3EB6-4809-A08E-ADA4574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509A-F962-4D96-A736-E1CB5DC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EB79-CE61-4ADB-A726-99DF790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038B-5024-4BF5-8DB1-CCE6A8C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7D-2D84-4AC7-A5A8-E999727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D4BC-F0F6-4B79-B4C4-E9B8DBB8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55EE-B1AD-411F-B968-197F04B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1AF4-DCE3-41E2-8CEF-ED00F86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C01E-5DC7-43BF-BE0D-0753176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98C4-1F9E-4076-AF68-1F95C0B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665C-B455-49DF-A8C3-E1C78A2A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B0AF-3EBA-4C60-BF58-4B9E2CBC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0E0AE-AC6B-48D4-9B2B-47C63952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F9C78-7A76-4E25-98BC-C37CF29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18092-B697-4277-AAF4-028E927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20F-42C6-4C65-BAE6-C4F1250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CC2D1-FD2C-4655-AEE8-E4D2867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B688B-668B-4F5A-92F9-18DB5D36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60782-A102-4BFD-A032-F298F29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F1FA7-141D-4118-8EB6-A80D793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683BC-BB8B-4D97-8EB2-493BD4B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FF9C6-8EB5-41BB-A493-E301B8A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DB4C3-1862-44FC-988A-3C2F419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4EF77-440E-4BCC-9FA1-B167A8B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50A85-A89F-422D-922C-C565AF3B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6A58F-2BDA-4782-9D25-E80BF609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4D-F316-4AAB-9A26-A94E4CB0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AB43D-6394-4D11-A78C-BED2CA3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34E02-0AA6-4704-B862-6279F01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CB8AC-F225-440F-8F85-3911636B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97AD9-C275-4DBD-AEB2-CEC4B1D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01D69-3EBA-463C-8A8B-9BA5F2E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2D3A9-1FFA-46ED-A7A7-453528F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196ED-60CB-4FBB-9723-CE33472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2B47A-9D39-4342-9DBA-F856C68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918BD-BD31-42A7-BD86-B75E7E3A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6CE26-290C-4609-8286-656171A9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0DD-6D48-407C-9EF4-1C0EFED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C7537-74CF-48FC-854E-CA6014D0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7CE7A-CAB8-413E-9086-83C31F7F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1C4A7-30EE-423F-B435-68551EE7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CBE90-E4A0-4D83-90A0-9B66A3F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415A6-2758-44CC-8DE6-F88713FB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80E39-CAFA-4BCE-BCB1-5059E58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8B73D-0413-455E-8B77-25DAC7B4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8AA5E-CA23-4AE4-BF4F-FD04CA7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E1E57-8621-4844-B9E1-E2B808D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834AF-3739-414F-997B-2507BA1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5C0-E3A5-43DB-93C1-C637B98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FD28B-A1D8-4B68-8B90-1C5EB55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29CD5-08E9-47DC-B1E3-F4394955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B4810-9043-49D7-A892-0108A692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0E7-36EB-466B-BEF6-D11E8B9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2B7-8E0A-4523-B776-35C01C0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1ACD-B765-469C-8E63-27A4E8BE879A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59E-3778-4281-9BB7-14063AE21397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6E7-5287-44C4-BEA3-1E7FE5954331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6BCE-3720-4444-A190-58018CBE2A5B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9C50-87FE-4A80-A239-3DD8F0257940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Sans Unico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D48C-98CF-4C84-9E44-1374C2E6D518}" type="slidenum">
              <a:rPr b="0" lang="ru-RU" sz="16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743200" y="5643360"/>
            <a:ext cx="64008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7dec9"/>
                </a:solidFill>
                <a:latin typeface="Lucida Sans Unicode"/>
              </a:rPr>
              <a:t>Павленко Н. О., </a:t>
            </a:r>
            <a:endParaRPr b="0" lang="en-US" sz="15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7dec9"/>
                </a:solidFill>
                <a:latin typeface="Lucida Sans Unicode"/>
              </a:rPr>
              <a:t>викладач української мови та літератури </a:t>
            </a:r>
            <a:endParaRPr b="0" lang="en-US" sz="15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7dec9"/>
                </a:solidFill>
                <a:latin typeface="Lucida Sans Unicode"/>
              </a:rPr>
              <a:t>вищої категорії</a:t>
            </a:r>
            <a:endParaRPr b="0" lang="en-US" sz="15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63680" y="633240"/>
            <a:ext cx="8381880" cy="387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302"/>
          <p:cNvPicPr/>
          <p:nvPr/>
        </p:nvPicPr>
        <p:blipFill>
          <a:blip r:embed="rId2"/>
          <a:stretch/>
        </p:blipFill>
        <p:spPr>
          <a:xfrm>
            <a:off x="1071720" y="3786120"/>
            <a:ext cx="2444760" cy="235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938160" y="298440"/>
            <a:ext cx="7682040" cy="14446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відсутність постійного приміщення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матеріальні нестатки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дія Емського указу 1876 року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перешкоди цензури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санкції місцевої влади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7" name="Picture 7" descr="06"/>
          <p:cNvPicPr/>
          <p:nvPr/>
        </p:nvPicPr>
        <p:blipFill>
          <a:blip r:embed="rId2"/>
          <a:stretch/>
        </p:blipFill>
        <p:spPr>
          <a:xfrm>
            <a:off x="6429240" y="37051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060560" y="298440"/>
            <a:ext cx="7559640" cy="1444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C:\Documents and Settings\Admin\Мои документы\УКР МОВА УКР ЛИТЕРАТУРА\франко\02_8117.jpg"/>
          <p:cNvPicPr/>
          <p:nvPr/>
        </p:nvPicPr>
        <p:blipFill>
          <a:blip r:embed="rId2"/>
          <a:stretch/>
        </p:blipFill>
        <p:spPr>
          <a:xfrm>
            <a:off x="642960" y="3571920"/>
            <a:ext cx="2143080" cy="3031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C:\Documents and Settings\Admin\Мои документы\УКР МОВА УКР ЛИТЕРАТУРА\франко\06_6855.jpg"/>
          <p:cNvPicPr/>
          <p:nvPr/>
        </p:nvPicPr>
        <p:blipFill>
          <a:blip r:embed="rId3"/>
          <a:stretch/>
        </p:blipFill>
        <p:spPr>
          <a:xfrm>
            <a:off x="3311640" y="2028960"/>
            <a:ext cx="2520720" cy="280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C:\Documents and Settings\Admin\Мои документы\УКР МОВА УКР ЛИТЕРАТУРА\франко\33_4496.jpg"/>
          <p:cNvPicPr/>
          <p:nvPr/>
        </p:nvPicPr>
        <p:blipFill>
          <a:blip r:embed="rId4"/>
          <a:stretch/>
        </p:blipFill>
        <p:spPr>
          <a:xfrm>
            <a:off x="6215040" y="342900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058920" y="189000"/>
            <a:ext cx="51116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Я пишу вірші і гадаю, що колись то буде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потрібно моєму народові.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А що мене мучать за них – то що ж зробиш?.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Це вже доля, а долі не обирають...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                             </a:t>
            </a:r>
            <a:r>
              <a:rPr b="1" lang="uk-UA" sz="2000" spc="-1" strike="noStrike">
                <a:solidFill>
                  <a:srgbClr val="ffffff"/>
                </a:solidFill>
                <a:latin typeface="Lucida Sans Unicode"/>
              </a:rPr>
              <a:t>В. Стус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23" name="Picture 6" descr="2"/>
          <p:cNvPicPr/>
          <p:nvPr/>
        </p:nvPicPr>
        <p:blipFill>
          <a:blip r:embed="rId1"/>
          <a:stretch/>
        </p:blipFill>
        <p:spPr>
          <a:xfrm>
            <a:off x="179280" y="260280"/>
            <a:ext cx="247176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stus_photo"/>
          <p:cNvPicPr/>
          <p:nvPr/>
        </p:nvPicPr>
        <p:blipFill>
          <a:blip r:embed="rId2"/>
          <a:stretch/>
        </p:blipFill>
        <p:spPr>
          <a:xfrm>
            <a:off x="5857920" y="2968560"/>
            <a:ext cx="2584440" cy="378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Автофигура 111" descr=""/>
          <p:cNvPicPr/>
          <p:nvPr/>
        </p:nvPicPr>
        <p:blipFill>
          <a:blip r:embed="rId1"/>
          <a:stretch/>
        </p:blipFill>
        <p:spPr>
          <a:xfrm>
            <a:off x="1116000" y="-23760"/>
            <a:ext cx="76262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684360" y="1557360"/>
          <a:ext cx="7343640" cy="5095800"/>
        </p:xfrm>
        <a:graphic>
          <a:graphicData uri="http://schemas.openxmlformats.org/drawingml/2006/table">
            <a:tbl>
              <a:tblPr/>
              <a:tblGrid>
                <a:gridCol w="4422600"/>
                <a:gridCol w="2921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996600"/>
                          </a:solidFill>
                          <a:latin typeface="Tahoma"/>
                        </a:rPr>
                        <a:t>    </a:t>
                      </a:r>
                      <a:r>
                        <a:rPr b="0" lang="uk-UA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 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вертанн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ХЕМА РЕЧЕНН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103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абусенько!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Скажи мені, де я?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Т.Шевченко)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71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амо,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и чуєте?        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А.Малишко)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6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забудь</a:t>
                      </a: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 мій сину,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жнивне поле      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П.Перебийніс)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9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тавайте, </a:t>
                      </a: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атьку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.Затуливітер)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1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 чого задивився</a:t>
                      </a: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 юначе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З.Кучерява)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0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94b6d"/>
                        </a:gs>
                        <a:gs pos="50000">
                          <a:srgbClr val="8dc765"/>
                        </a:gs>
                        <a:gs pos="100000">
                          <a:srgbClr val="294b6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847800" y="298440"/>
            <a:ext cx="7772400" cy="1444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66320" y="2420640"/>
            <a:ext cx="3792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29" name="Группа 46" descr=""/>
          <p:cNvPicPr/>
          <p:nvPr/>
        </p:nvPicPr>
        <p:blipFill>
          <a:blip r:embed="rId2"/>
          <a:stretch/>
        </p:blipFill>
        <p:spPr>
          <a:xfrm>
            <a:off x="201600" y="1865160"/>
            <a:ext cx="8893080" cy="459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060560" y="298440"/>
            <a:ext cx="7559640" cy="1444680"/>
          </a:xfrm>
          <a:prstGeom prst="rect">
            <a:avLst/>
          </a:prstGeom>
          <a:ln w="0">
            <a:noFill/>
          </a:ln>
        </p:spPr>
      </p:pic>
      <p:pic>
        <p:nvPicPr>
          <p:cNvPr id="331" name="Группа 86" descr=""/>
          <p:cNvPicPr/>
          <p:nvPr/>
        </p:nvPicPr>
        <p:blipFill>
          <a:blip r:embed="rId2"/>
          <a:stretch/>
        </p:blipFill>
        <p:spPr>
          <a:xfrm>
            <a:off x="66600" y="1285920"/>
            <a:ext cx="9010800" cy="5187960"/>
          </a:xfrm>
          <a:prstGeom prst="rect">
            <a:avLst/>
          </a:prstGeom>
          <a:ln w="0">
            <a:noFill/>
          </a:ln>
        </p:spPr>
      </p:pic>
      <p:sp>
        <p:nvSpPr>
          <p:cNvPr id="332" name="Автофигура 83"/>
          <p:cNvSpPr/>
          <p:nvPr/>
        </p:nvSpPr>
        <p:spPr>
          <a:xfrm>
            <a:off x="1571760" y="357120"/>
            <a:ext cx="6048360" cy="703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dc765"/>
              </a:gs>
              <a:gs pos="100000">
                <a:srgbClr val="415c2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ФОРМИ ДІЄСЛОВА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060560" y="298440"/>
            <a:ext cx="726120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179280" y="2205000"/>
          <a:ext cx="8713800" cy="3960720"/>
        </p:xfrm>
        <a:graphic>
          <a:graphicData uri="http://schemas.openxmlformats.org/drawingml/2006/table">
            <a:tbl>
              <a:tblPr/>
              <a:tblGrid>
                <a:gridCol w="4265640"/>
                <a:gridCol w="4448160"/>
              </a:tblGrid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ШЕТЬСЯ </a:t>
                      </a: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АЗОМ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6"/>
                        </a:gs>
                        <a:gs pos="50000">
                          <a:srgbClr val="0066ff"/>
                        </a:gs>
                        <a:gs pos="100000">
                          <a:srgbClr val="00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ШЕТЬСЯ </a:t>
                      </a:r>
                      <a:r>
                        <a:rPr b="0" lang="uk-UA" sz="2800" spc="-1" strike="noStrike">
                          <a:solidFill>
                            <a:srgbClr val="feb80a"/>
                          </a:solidFill>
                          <a:latin typeface="Tahoma"/>
                        </a:rPr>
                        <a:t>ОКРЕМ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76"/>
                        </a:gs>
                        <a:gs pos="5000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</a:tr>
              <a:tr h="27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кщо без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е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дієслово не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живається: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навидіти,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хтувати, незчутися;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кщо дієслово має префікс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до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до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увати,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до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ча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76"/>
                        </a:gs>
                        <a:gs pos="50000">
                          <a:srgbClr val="0066ff"/>
                        </a:gs>
                        <a:gs pos="100000">
                          <a:srgbClr val="00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сіх інших випадках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істи, </a:t>
                      </a: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стигати,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помагати,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здужати,(</a:t>
                      </a:r>
                      <a:r>
                        <a:rPr b="0" i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 </a:t>
                      </a: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могти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76"/>
                        </a:gs>
                        <a:gs pos="5000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68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68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68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cc3300"/>
                </a:solidFill>
                <a:latin typeface="Lucida Sans Unicode"/>
              </a:rPr>
              <a:t>Публіцистичний стиль обслуговує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cc3300"/>
                </a:solidFill>
                <a:latin typeface="Lucida Sans Unicode"/>
              </a:rPr>
              <a:t> </a:t>
            </a:r>
            <a:r>
              <a:rPr b="0" lang="uk-UA" sz="2600" spc="-1" strike="noStrike">
                <a:solidFill>
                  <a:srgbClr val="cc3300"/>
                </a:solidFill>
                <a:latin typeface="Lucida Sans Unicode"/>
              </a:rPr>
              <a:t>сферу засобів масової інформації.</a:t>
            </a: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Його призначення –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формування масової думки.</a:t>
            </a: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uk-UA" sz="2600" spc="-1" strike="noStrike">
                <a:solidFill>
                  <a:srgbClr val="4f271c"/>
                </a:solidFill>
                <a:latin typeface="Lucida Sans Unicode"/>
              </a:rPr>
              <a:t>Визначальна риса –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f271c"/>
                </a:solidFill>
                <a:latin typeface="Lucida Sans Unicode"/>
              </a:rPr>
              <a:t>вдале поєднання логізації викладу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f271c"/>
                </a:solidFill>
                <a:latin typeface="Lucida Sans Unicode"/>
              </a:rPr>
              <a:t>з емоційно-експресивним забарвленням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Об'єктом публіцистичного стилю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є явища всіх сфер життя людини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357120" y="428760"/>
            <a:ext cx="84297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a8a14"/>
                </a:solidFill>
                <a:latin typeface="Comic Sans MS"/>
              </a:rPr>
              <a:t>Твір-роздум у публіцистичному стилі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a8a14"/>
                </a:solidFill>
                <a:latin typeface="Comic Sans MS"/>
              </a:rPr>
              <a:t>на морально-етичну тему</a:t>
            </a:r>
            <a:r>
              <a:rPr b="0" lang="ru-RU" sz="2000" spc="-1" strike="noStrike">
                <a:solidFill>
                  <a:srgbClr val="aa8a14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Дати поняття “мораль”, “загальнолюдські моральні цінності”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Ознайомити з особливостями публіцистичного стилю мовлення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Ознайомити студентів зі структурою твору-роздуму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Закріпити навички складання  плану твору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Розвивати логічне мислення студентів, навчити створювати власні висловлювання, добирати аргументи, приклади, робити висновки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Сприяти формуванню у студентів загальнолюдських моральних цінностей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6320" indent="-34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Lucida Sans Unicode"/>
              </a:rPr>
              <a:t>Формувати мотивацію до позитивного самовираження через написання аргументованого твору-роздуму.   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2" descr=""/>
          <p:cNvPicPr/>
          <p:nvPr/>
        </p:nvPicPr>
        <p:blipFill>
          <a:blip r:embed="rId1"/>
          <a:stretch/>
        </p:blipFill>
        <p:spPr>
          <a:xfrm>
            <a:off x="360360" y="146160"/>
            <a:ext cx="8332920" cy="1231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28760" y="1499760"/>
            <a:ext cx="8229600" cy="4429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a8a14"/>
                </a:solidFill>
                <a:latin typeface="Lucida Sans Unicode"/>
              </a:rPr>
              <a:t>Мораль</a:t>
            </a: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 –  одна з форм суспільної свідомості;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система поглядів та уявлень, норм і оцінок,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що регулюють поведінку людей.</a:t>
            </a:r>
            <a:r>
              <a:rPr b="1" lang="uk-UA" sz="2600" spc="-1" strike="noStrike">
                <a:solidFill>
                  <a:srgbClr val="aa8a14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a8a14"/>
                </a:solidFill>
                <a:latin typeface="Lucida Sans Unicode"/>
              </a:rPr>
              <a:t>Загальнолюдські моральні цінності</a:t>
            </a: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 –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це суспільний ідеал, який приймається людством поза часом, незалежно від національної, релігійної приналежності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aa8a14"/>
                </a:solidFill>
                <a:latin typeface="Lucida Sans Unicode"/>
              </a:rPr>
              <a:t>інших факторів суспільного життя.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68436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187280" y="2060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692280"/>
            <a:ext cx="7034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Усі педагогічні технології належать до інформаційних, бо будь-який навчальний процес – це передача інформації стосовно певної предметної галузі знань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Мультимедіа (лат. multum – багато й англ. media – засоби) – система сучасних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технічних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асобів, що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дозволяють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працювати з текстовою інформацією, графічним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ображенням, звуком (мовлення, музика, ефекти), анімаційною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комп’ютерною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графікою (мальовані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фільми, тривимірна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графіка) в єдиному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комплексі; один </a:t>
            </a:r>
            <a:r>
              <a:rPr b="0" lang="uk-UA" sz="2000" spc="-1" strike="noStrike">
                <a:solidFill>
                  <a:srgbClr val="ffffff"/>
                </a:solidFill>
                <a:latin typeface="Lucida Sans Unicode"/>
              </a:rPr>
              <a:t>і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 перспективних напрямків, що найбільш швидко розвиваються, особливо в галузі освіти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58" name="Picture 10" descr="sova2"/>
          <p:cNvPicPr/>
          <p:nvPr/>
        </p:nvPicPr>
        <p:blipFill>
          <a:blip r:embed="rId1"/>
          <a:stretch/>
        </p:blipFill>
        <p:spPr>
          <a:xfrm>
            <a:off x="7715160" y="5500800"/>
            <a:ext cx="505080" cy="63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4" descr="рушник 1"/>
          <p:cNvPicPr/>
          <p:nvPr/>
        </p:nvPicPr>
        <p:blipFill>
          <a:blip r:embed="rId1"/>
          <a:stretch/>
        </p:blipFill>
        <p:spPr>
          <a:xfrm>
            <a:off x="108000" y="0"/>
            <a:ext cx="4248000" cy="6742080"/>
          </a:xfrm>
          <a:prstGeom prst="rect">
            <a:avLst/>
          </a:prstGeom>
          <a:ln w="0">
            <a:noFill/>
          </a:ln>
        </p:spPr>
      </p:pic>
      <p:grpSp>
        <p:nvGrpSpPr>
          <p:cNvPr id="342" name="Объект WordArt 6"/>
          <p:cNvGrpSpPr/>
          <p:nvPr/>
        </p:nvGrpSpPr>
        <p:grpSpPr>
          <a:xfrm>
            <a:off x="4406760" y="171360"/>
            <a:ext cx="4353120" cy="6150240"/>
            <a:chOff x="4406760" y="171360"/>
            <a:chExt cx="4353120" cy="6150240"/>
          </a:xfrm>
        </p:grpSpPr>
        <p:pic>
          <p:nvPicPr>
            <p:cNvPr id="343" name="Объект WordArt 6" descr=""/>
            <p:cNvPicPr/>
            <p:nvPr/>
          </p:nvPicPr>
          <p:blipFill>
            <a:blip r:embed="rId2"/>
            <a:stretch/>
          </p:blipFill>
          <p:spPr>
            <a:xfrm>
              <a:off x="4406760" y="171360"/>
              <a:ext cx="4353120" cy="615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427640" y="189000"/>
              <a:ext cx="43196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buClr>
                  <a:srgbClr val="8dc765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іршові</a:t>
              </a:r>
              <a:endParaRPr b="1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buClr>
                  <a:srgbClr val="8dc765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озміри</a:t>
              </a:r>
              <a:endParaRPr b="1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476000" y="1773000"/>
            <a:ext cx="6745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cc3300"/>
                </a:solidFill>
                <a:latin typeface="Lucida Sans Unicode"/>
              </a:rPr>
              <a:t>Визначити повторювані групи складів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346" name="Объект WordArt 3"/>
          <p:cNvGrpSpPr/>
          <p:nvPr/>
        </p:nvGrpSpPr>
        <p:grpSpPr>
          <a:xfrm>
            <a:off x="884160" y="317520"/>
            <a:ext cx="7570800" cy="1461960"/>
            <a:chOff x="884160" y="317520"/>
            <a:chExt cx="7570800" cy="1461960"/>
          </a:xfrm>
        </p:grpSpPr>
        <p:pic>
          <p:nvPicPr>
            <p:cNvPr id="347" name="Объект WordArt 3" descr=""/>
            <p:cNvPicPr/>
            <p:nvPr/>
          </p:nvPicPr>
          <p:blipFill>
            <a:blip r:embed="rId1"/>
            <a:stretch/>
          </p:blipFill>
          <p:spPr>
            <a:xfrm>
              <a:off x="884160" y="317520"/>
              <a:ext cx="757080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900000" y="333360"/>
              <a:ext cx="754380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e7dec9"/>
                  </a:solidFill>
                  <a:latin typeface="Arial Black"/>
                </a:rPr>
                <a:t>ПОРЯДОК ВИЗНАЧЕННЯ ВІРШОВОГО РОЗМІРУ</a:t>
              </a:r>
              <a:endParaRPr b="1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49" name="Автофигура 4"/>
          <p:cNvSpPr/>
          <p:nvPr/>
        </p:nvSpPr>
        <p:spPr>
          <a:xfrm>
            <a:off x="1295280" y="2362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Прямоуг. 5"/>
          <p:cNvSpPr/>
          <p:nvPr/>
        </p:nvSpPr>
        <p:spPr>
          <a:xfrm>
            <a:off x="1219320" y="2895480"/>
            <a:ext cx="53316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Автофигура 6"/>
          <p:cNvSpPr/>
          <p:nvPr/>
        </p:nvSpPr>
        <p:spPr>
          <a:xfrm rot="10800000">
            <a:off x="304560" y="2437920"/>
            <a:ext cx="609480" cy="68580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Автофигура 7"/>
          <p:cNvSpPr/>
          <p:nvPr/>
        </p:nvSpPr>
        <p:spPr>
          <a:xfrm rot="10800000">
            <a:off x="2514240" y="2437920"/>
            <a:ext cx="609480" cy="68580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Автофигура 8"/>
          <p:cNvSpPr/>
          <p:nvPr/>
        </p:nvSpPr>
        <p:spPr>
          <a:xfrm>
            <a:off x="3733920" y="2362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Прямоуг. 9"/>
          <p:cNvSpPr/>
          <p:nvPr/>
        </p:nvSpPr>
        <p:spPr>
          <a:xfrm>
            <a:off x="3657600" y="2895480"/>
            <a:ext cx="53352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Прямоуг. 10"/>
          <p:cNvSpPr/>
          <p:nvPr/>
        </p:nvSpPr>
        <p:spPr>
          <a:xfrm>
            <a:off x="5715000" y="2895480"/>
            <a:ext cx="53352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Прямоуг. 11"/>
          <p:cNvSpPr/>
          <p:nvPr/>
        </p:nvSpPr>
        <p:spPr>
          <a:xfrm>
            <a:off x="7467480" y="2895480"/>
            <a:ext cx="53352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Автофигура 12"/>
          <p:cNvSpPr/>
          <p:nvPr/>
        </p:nvSpPr>
        <p:spPr>
          <a:xfrm>
            <a:off x="5791320" y="2362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Автофигура 13"/>
          <p:cNvSpPr/>
          <p:nvPr/>
        </p:nvSpPr>
        <p:spPr>
          <a:xfrm>
            <a:off x="7543800" y="2362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Автофигура 14"/>
          <p:cNvSpPr/>
          <p:nvPr/>
        </p:nvSpPr>
        <p:spPr>
          <a:xfrm rot="10800000">
            <a:off x="4495680" y="2437920"/>
            <a:ext cx="609840" cy="68580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Автофигура 15"/>
          <p:cNvSpPr/>
          <p:nvPr/>
        </p:nvSpPr>
        <p:spPr>
          <a:xfrm rot="10800000">
            <a:off x="6324480" y="2437920"/>
            <a:ext cx="609840" cy="68580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Автофигура 16"/>
          <p:cNvSpPr/>
          <p:nvPr/>
        </p:nvSpPr>
        <p:spPr>
          <a:xfrm rot="10800000">
            <a:off x="8153280" y="2437920"/>
            <a:ext cx="609840" cy="68580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2" name="Рисунок 17" descr="25"/>
          <p:cNvPicPr/>
          <p:nvPr/>
        </p:nvPicPr>
        <p:blipFill>
          <a:blip r:embed="rId2"/>
          <a:srcRect l="0" t="0" r="3524" b="0"/>
          <a:stretch/>
        </p:blipFill>
        <p:spPr>
          <a:xfrm>
            <a:off x="2057400" y="2362320"/>
            <a:ext cx="23796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8" descr="25"/>
          <p:cNvPicPr/>
          <p:nvPr/>
        </p:nvPicPr>
        <p:blipFill>
          <a:blip r:embed="rId3"/>
          <a:srcRect l="0" t="0" r="3524" b="0"/>
          <a:stretch/>
        </p:blipFill>
        <p:spPr>
          <a:xfrm>
            <a:off x="4191120" y="2362320"/>
            <a:ext cx="237960" cy="91440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9" descr="25"/>
          <p:cNvPicPr/>
          <p:nvPr/>
        </p:nvPicPr>
        <p:blipFill>
          <a:blip r:embed="rId4"/>
          <a:srcRect l="0" t="0" r="3524" b="0"/>
          <a:stretch/>
        </p:blipFill>
        <p:spPr>
          <a:xfrm>
            <a:off x="6172200" y="2362320"/>
            <a:ext cx="23796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20" descr="25"/>
          <p:cNvPicPr/>
          <p:nvPr/>
        </p:nvPicPr>
        <p:blipFill>
          <a:blip r:embed="rId5"/>
          <a:srcRect l="0" t="0" r="3524" b="0"/>
          <a:stretch/>
        </p:blipFill>
        <p:spPr>
          <a:xfrm>
            <a:off x="8001000" y="2362320"/>
            <a:ext cx="237960" cy="914400"/>
          </a:xfrm>
          <a:prstGeom prst="rect">
            <a:avLst/>
          </a:prstGeom>
          <a:ln w="0">
            <a:noFill/>
          </a:ln>
        </p:spPr>
      </p:pic>
      <p:sp>
        <p:nvSpPr>
          <p:cNvPr id="366" name="Автофигура 21"/>
          <p:cNvSpPr/>
          <p:nvPr/>
        </p:nvSpPr>
        <p:spPr>
          <a:xfrm rot="16200000">
            <a:off x="890280" y="3581280"/>
            <a:ext cx="609840" cy="1600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75"/>
                </a:lnTo>
                <a:cubicBezTo>
                  <a:pt x="10800" y="10575"/>
                  <a:pt x="5400" y="11475"/>
                  <a:pt x="0" y="11475"/>
                </a:cubicBezTo>
                <a:cubicBezTo>
                  <a:pt x="5400" y="11475"/>
                  <a:pt x="10800" y="12375"/>
                  <a:pt x="10800" y="132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Прямоуг. 23"/>
          <p:cNvSpPr/>
          <p:nvPr/>
        </p:nvSpPr>
        <p:spPr>
          <a:xfrm>
            <a:off x="395280" y="458136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3300"/>
                </a:solidFill>
                <a:latin typeface="Arial"/>
              </a:rPr>
              <a:t>СТОПА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Линия 25"/>
          <p:cNvSpPr/>
          <p:nvPr/>
        </p:nvSpPr>
        <p:spPr>
          <a:xfrm flipH="1" flipV="1">
            <a:off x="1979280" y="4292280"/>
            <a:ext cx="25146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Линия 26"/>
          <p:cNvSpPr/>
          <p:nvPr/>
        </p:nvSpPr>
        <p:spPr>
          <a:xfrm flipH="1" flipV="1">
            <a:off x="3635280" y="4149720"/>
            <a:ext cx="990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Линия 27"/>
          <p:cNvSpPr/>
          <p:nvPr/>
        </p:nvSpPr>
        <p:spPr>
          <a:xfrm flipV="1">
            <a:off x="4859280" y="4076640"/>
            <a:ext cx="7621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Линия 28"/>
          <p:cNvSpPr/>
          <p:nvPr/>
        </p:nvSpPr>
        <p:spPr>
          <a:xfrm flipV="1">
            <a:off x="5148360" y="4149720"/>
            <a:ext cx="27432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Rectangle 30"/>
          <p:cNvSpPr/>
          <p:nvPr/>
        </p:nvSpPr>
        <p:spPr>
          <a:xfrm>
            <a:off x="2556000" y="5373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mic Sans MS"/>
              </a:rPr>
              <a:t>У ЦЬОМУ РЯДКУ 4 СТОПИ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Объект WordArt 4"/>
          <p:cNvSpPr txBox="1"/>
          <p:nvPr/>
        </p:nvSpPr>
        <p:spPr>
          <a:xfrm>
            <a:off x="304920" y="3276720"/>
            <a:ext cx="609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4" name="Объект WordArt 5"/>
          <p:cNvSpPr txBox="1"/>
          <p:nvPr/>
        </p:nvSpPr>
        <p:spPr>
          <a:xfrm>
            <a:off x="990720" y="3276720"/>
            <a:ext cx="990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ДОК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5" name="Объект WordArt 6"/>
          <p:cNvSpPr txBox="1"/>
          <p:nvPr/>
        </p:nvSpPr>
        <p:spPr>
          <a:xfrm>
            <a:off x="2286000" y="3276720"/>
            <a:ext cx="1219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ИШ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Объект WordArt 7"/>
          <p:cNvSpPr txBox="1"/>
          <p:nvPr/>
        </p:nvSpPr>
        <p:spPr>
          <a:xfrm>
            <a:off x="3581280" y="3276720"/>
            <a:ext cx="6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НЕ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7" name="Объект WordArt 8"/>
          <p:cNvSpPr txBox="1"/>
          <p:nvPr/>
        </p:nvSpPr>
        <p:spPr>
          <a:xfrm>
            <a:off x="5715000" y="3276720"/>
            <a:ext cx="609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КО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8" name="Объект WordArt 9"/>
          <p:cNvSpPr txBox="1"/>
          <p:nvPr/>
        </p:nvSpPr>
        <p:spPr>
          <a:xfrm>
            <a:off x="6324480" y="327672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Объект WordArt 10"/>
          <p:cNvSpPr txBox="1"/>
          <p:nvPr/>
        </p:nvSpPr>
        <p:spPr>
          <a:xfrm>
            <a:off x="7467480" y="3276720"/>
            <a:ext cx="6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ХА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0" name="Объект WordArt 31"/>
          <p:cNvSpPr txBox="1"/>
          <p:nvPr/>
        </p:nvSpPr>
        <p:spPr>
          <a:xfrm>
            <a:off x="80773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1" name="Объект WordArt 27"/>
          <p:cNvSpPr txBox="1"/>
          <p:nvPr/>
        </p:nvSpPr>
        <p:spPr>
          <a:xfrm>
            <a:off x="4267080" y="312408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ИЙ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Объект WordArt 4"/>
          <p:cNvSpPr txBox="1"/>
          <p:nvPr/>
        </p:nvSpPr>
        <p:spPr>
          <a:xfrm>
            <a:off x="468360" y="5661000"/>
            <a:ext cx="20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cc3300"/>
                </a:solidFill>
                <a:latin typeface="Arial Black"/>
              </a:rPr>
              <a:t>ЯМБ</a:t>
            </a:r>
            <a:endParaRPr b="1" lang="en-US" sz="2000" spc="1" strike="noStrike">
              <a:ln w="0">
                <a:noFill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83" name="Rectangle 41"/>
          <p:cNvSpPr/>
          <p:nvPr/>
        </p:nvSpPr>
        <p:spPr>
          <a:xfrm>
            <a:off x="3141360" y="5877000"/>
            <a:ext cx="508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ДВО</a:t>
            </a:r>
            <a:r>
              <a:rPr b="1" lang="uk-UA" sz="2000" spc="-1" strike="noStrike">
                <a:solidFill>
                  <a:srgbClr val="e7dec9"/>
                </a:solidFill>
                <a:latin typeface="Comic Sans MS"/>
              </a:rPr>
              <a:t>СКЛАДОВИЙ ВІРШОВИЙ РОЗМІР</a:t>
            </a:r>
            <a:br>
              <a:rPr sz="2000"/>
            </a:br>
            <a:r>
              <a:rPr b="1" lang="uk-UA" sz="2000" spc="-1" strike="noStrike">
                <a:solidFill>
                  <a:srgbClr val="e7dec9"/>
                </a:solidFill>
                <a:latin typeface="Comic Sans MS"/>
              </a:rPr>
              <a:t>З НАГОЛОСОМ НА </a:t>
            </a: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ДРУГОМУ</a:t>
            </a:r>
            <a:r>
              <a:rPr b="1" lang="uk-UA" sz="2000" spc="-1" strike="noStrike">
                <a:solidFill>
                  <a:srgbClr val="e7dec9"/>
                </a:solidFill>
                <a:latin typeface="Comic Sans MS"/>
              </a:rPr>
              <a:t> СКЛАДІ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900000" y="1413000"/>
            <a:ext cx="799308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якую за увагу!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92980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Lucida Sans Unicode"/>
              </a:rPr>
              <a:t>Види технологій: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Lucida Sans Unicode"/>
              </a:rPr>
              <a:t>- інформаційні технології;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Lucida Sans Unicode"/>
              </a:rPr>
              <a:t>- електронні підручники;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Lucida Sans Unicode"/>
              </a:rPr>
              <a:t>- окремі типи файлів (зображення, відео-, аудіо-, анімації);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Lucida Sans Unicode"/>
              </a:rPr>
              <a:t>розроблені авторські уроки (інтеграція різних об’єктів в один формат-     презентації, web-сторінки).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3399"/>
                </a:solidFill>
                <a:uFillTx/>
                <a:latin typeface="Comic Sans MS"/>
              </a:rPr>
              <a:t>Комп’ютерні засоби навчання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1.Електронні підручники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2. Статистичні таблиці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3.Динамічні таблиці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4. Літературні портрети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5. Тестові завдання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6. Диктанти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7. Медіа-твори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3399"/>
                </a:solidFill>
                <a:latin typeface="Comic Sans MS"/>
              </a:rPr>
              <a:t>8. Віртуальні екскурсії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60" name="Picture 4" descr="Bs01080_"/>
          <p:cNvPicPr/>
          <p:nvPr/>
        </p:nvPicPr>
        <p:blipFill>
          <a:blip r:embed="rId1"/>
          <a:stretch/>
        </p:blipFill>
        <p:spPr>
          <a:xfrm>
            <a:off x="5697360" y="2781360"/>
            <a:ext cx="29466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938160" y="298440"/>
            <a:ext cx="7682040" cy="1444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Lucida Sans Unicode"/>
              </a:rPr>
              <a:t>1. Мотивація заняття короткий вступний матеріал.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Lucida Sans Unicode"/>
              </a:rPr>
              <a:t>2. Оголошення теми та очікуваних результатів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Lucida Sans Unicode"/>
              </a:rPr>
              <a:t>3. Основна частина – опанування навчальним матеріалом: робота з поняттями, невеликими текстовими фрагментами, що містять навчальну інформацію, відеосюжетами, аудіозаписами, фотодокументами, таблицями, схемами (виклад необхідної інформації з теми у вигляді слайдів).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Lucida Sans Unicode"/>
              </a:rPr>
              <a:t>4. Підбиття підсумків  включає рефлексію почуттів, способів діяльності студентів та відтворення студентами  основних понять заняття з демонстрацією слайдів з текстовими фрагментами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63" name="Picture 7" descr="svesda"/>
          <p:cNvPicPr/>
          <p:nvPr/>
        </p:nvPicPr>
        <p:blipFill>
          <a:blip r:embed="rId2"/>
          <a:stretch/>
        </p:blipFill>
        <p:spPr>
          <a:xfrm>
            <a:off x="6227640" y="476280"/>
            <a:ext cx="343080" cy="2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svesda"/>
          <p:cNvPicPr/>
          <p:nvPr/>
        </p:nvPicPr>
        <p:blipFill>
          <a:blip r:embed="rId3"/>
          <a:stretch/>
        </p:blipFill>
        <p:spPr>
          <a:xfrm>
            <a:off x="7451640" y="620640"/>
            <a:ext cx="343080" cy="28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svesda"/>
          <p:cNvPicPr/>
          <p:nvPr/>
        </p:nvPicPr>
        <p:blipFill>
          <a:blip r:embed="rId4"/>
          <a:stretch/>
        </p:blipFill>
        <p:spPr>
          <a:xfrm>
            <a:off x="6588000" y="83664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svesda"/>
          <p:cNvPicPr/>
          <p:nvPr/>
        </p:nvPicPr>
        <p:blipFill>
          <a:blip r:embed="rId5"/>
          <a:stretch/>
        </p:blipFill>
        <p:spPr>
          <a:xfrm>
            <a:off x="7596360" y="836640"/>
            <a:ext cx="865080" cy="72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svesda"/>
          <p:cNvPicPr/>
          <p:nvPr/>
        </p:nvPicPr>
        <p:blipFill>
          <a:blip r:embed="rId6"/>
          <a:stretch/>
        </p:blipFill>
        <p:spPr>
          <a:xfrm>
            <a:off x="7812000" y="260280"/>
            <a:ext cx="1008000" cy="83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5"/>
          <p:cNvSpPr/>
          <p:nvPr/>
        </p:nvSpPr>
        <p:spPr>
          <a:xfrm>
            <a:off x="1258920" y="549360"/>
            <a:ext cx="4103640" cy="324000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9999ff"/>
            </a:solidFill>
            <a:miter/>
          </a:ln>
          <a:effectLst>
            <a:outerShdw dist="107932" dir="13500000" blurRad="0" rotWithShape="0">
              <a:srgbClr val="4f27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mic Sans MS"/>
              </a:rPr>
              <a:t>Викладач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f271c"/>
                </a:solidFill>
                <a:latin typeface="Comic Sans MS"/>
              </a:rPr>
              <a:t>Організовує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f271c"/>
                </a:solidFill>
                <a:latin typeface="Comic Sans MS"/>
              </a:rPr>
              <a:t>та спрямовує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2843280" y="3213000"/>
            <a:ext cx="4176720" cy="324036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9999ff"/>
            </a:solidFill>
            <a:miter/>
          </a:ln>
          <a:effectLst>
            <a:outerShdw dist="107932" dir="13500000" blurRad="0" rotWithShape="0">
              <a:srgbClr val="4f27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mic Sans MS"/>
              </a:rPr>
              <a:t>Логічне та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mic Sans MS"/>
              </a:rPr>
              <a:t>творче мислення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4572000" y="404640"/>
            <a:ext cx="4103640" cy="324036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9999ff"/>
            </a:solidFill>
            <a:miter/>
          </a:ln>
          <a:effectLst>
            <a:outerShdw dist="107932" dir="13500000" blurRad="0" rotWithShape="0">
              <a:srgbClr val="4f27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Comic Sans MS"/>
              </a:rPr>
              <a:t>Студент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f271c"/>
                </a:solidFill>
                <a:latin typeface="Comic Sans MS"/>
              </a:rPr>
              <a:t>Відчуває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f271c"/>
                </a:solidFill>
                <a:latin typeface="Comic Sans MS"/>
              </a:rPr>
              <a:t>і осмислює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1143000" y="2928960"/>
            <a:ext cx="742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’ютерні засоби навчання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WordArt 4" descr=""/>
          <p:cNvPicPr/>
          <p:nvPr/>
        </p:nvPicPr>
        <p:blipFill>
          <a:blip r:embed="rId1"/>
          <a:stretch/>
        </p:blipFill>
        <p:spPr>
          <a:xfrm>
            <a:off x="536400" y="4359240"/>
            <a:ext cx="8290080" cy="1736640"/>
          </a:xfrm>
          <a:prstGeom prst="rect">
            <a:avLst/>
          </a:prstGeom>
          <a:ln w="0">
            <a:noFill/>
          </a:ln>
        </p:spPr>
      </p:pic>
      <p:sp>
        <p:nvSpPr>
          <p:cNvPr id="273" name="PubRRectCallout"/>
          <p:cNvSpPr/>
          <p:nvPr/>
        </p:nvSpPr>
        <p:spPr>
          <a:xfrm>
            <a:off x="250920" y="620640"/>
            <a:ext cx="8250120" cy="3951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4" name="Diagram 7"/>
          <p:cNvGrpSpPr/>
          <p:nvPr/>
        </p:nvGrpSpPr>
        <p:grpSpPr>
          <a:xfrm>
            <a:off x="2078640" y="106560"/>
            <a:ext cx="4622400" cy="3748680"/>
            <a:chOff x="2078640" y="106560"/>
            <a:chExt cx="4622400" cy="3748680"/>
          </a:xfrm>
        </p:grpSpPr>
        <p:sp>
          <p:nvSpPr>
            <p:cNvPr id="275" name="_s1028"/>
            <p:cNvSpPr/>
            <p:nvPr/>
          </p:nvSpPr>
          <p:spPr>
            <a:xfrm flipH="1" flipV="1">
              <a:off x="3243960" y="1813680"/>
              <a:ext cx="574920" cy="156240"/>
            </a:xfrm>
            <a:prstGeom prst="line">
              <a:avLst/>
            </a:prstGeom>
            <a:ln w="2844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_s1029"/>
            <p:cNvSpPr/>
            <p:nvPr/>
          </p:nvSpPr>
          <p:spPr>
            <a:xfrm>
              <a:off x="2078640" y="1154880"/>
              <a:ext cx="1200240" cy="1009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eb8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Шкільні”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рами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_s1030"/>
            <p:cNvSpPr/>
            <p:nvPr/>
          </p:nvSpPr>
          <p:spPr>
            <a:xfrm flipH="1">
              <a:off x="3681360" y="2532600"/>
              <a:ext cx="353880" cy="410040"/>
            </a:xfrm>
            <a:prstGeom prst="line">
              <a:avLst/>
            </a:prstGeom>
            <a:ln w="2844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_s1031"/>
            <p:cNvSpPr/>
            <p:nvPr/>
          </p:nvSpPr>
          <p:spPr>
            <a:xfrm>
              <a:off x="2732760" y="2845440"/>
              <a:ext cx="1200240" cy="1009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eb8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рама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_s1032"/>
            <p:cNvSpPr/>
            <p:nvPr/>
          </p:nvSpPr>
          <p:spPr>
            <a:xfrm>
              <a:off x="4739760" y="2532600"/>
              <a:ext cx="353880" cy="410040"/>
            </a:xfrm>
            <a:prstGeom prst="line">
              <a:avLst/>
            </a:prstGeom>
            <a:ln w="2844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0" name="_s1033"/>
            <p:cNvSpPr/>
            <p:nvPr/>
          </p:nvSpPr>
          <p:spPr>
            <a:xfrm>
              <a:off x="4846680" y="2845440"/>
              <a:ext cx="1200240" cy="1009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eb8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Комедія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_s1034"/>
            <p:cNvSpPr/>
            <p:nvPr/>
          </p:nvSpPr>
          <p:spPr>
            <a:xfrm flipV="1">
              <a:off x="4956480" y="1813680"/>
              <a:ext cx="574560" cy="156240"/>
            </a:xfrm>
            <a:prstGeom prst="line">
              <a:avLst/>
            </a:prstGeom>
            <a:ln w="2844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_s1035"/>
            <p:cNvSpPr/>
            <p:nvPr/>
          </p:nvSpPr>
          <p:spPr>
            <a:xfrm>
              <a:off x="5500800" y="1153080"/>
              <a:ext cx="1200240" cy="1009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eb8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Комічна 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опера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_s1036"/>
            <p:cNvSpPr/>
            <p:nvPr/>
          </p:nvSpPr>
          <p:spPr>
            <a:xfrm flipV="1">
              <a:off x="4387680" y="1114560"/>
              <a:ext cx="0" cy="507600"/>
            </a:xfrm>
            <a:prstGeom prst="line">
              <a:avLst/>
            </a:prstGeom>
            <a:ln w="2844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_s1037"/>
            <p:cNvSpPr/>
            <p:nvPr/>
          </p:nvSpPr>
          <p:spPr>
            <a:xfrm>
              <a:off x="3788640" y="106560"/>
              <a:ext cx="1200240" cy="100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eb8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Інтермедії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_s1038"/>
            <p:cNvSpPr/>
            <p:nvPr/>
          </p:nvSpPr>
          <p:spPr>
            <a:xfrm>
              <a:off x="3788640" y="1622160"/>
              <a:ext cx="1200240" cy="1009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3366"/>
                  </a:solidFill>
                  <a:latin typeface="Bookman Old Style"/>
                </a:rPr>
                <a:t>Драматургія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3366"/>
                  </a:solidFill>
                  <a:latin typeface="Bookman Old Style"/>
                </a:rPr>
                <a:t> </a:t>
              </a:r>
              <a:r>
                <a:rPr b="1" lang="uk-UA" sz="1400" spc="-1" strike="noStrike">
                  <a:solidFill>
                    <a:srgbClr val="003366"/>
                  </a:solidFill>
                  <a:latin typeface="Bookman Old Style"/>
                </a:rPr>
                <a:t>за часів 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3366"/>
                  </a:solidFill>
                  <a:latin typeface="Bookman Old Style"/>
                </a:rPr>
                <a:t>класицизму</a:t>
              </a:r>
              <a:endParaRPr b="1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969840" y="298440"/>
            <a:ext cx="765036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87" name="Organization Chart 28"/>
          <p:cNvGrpSpPr/>
          <p:nvPr/>
        </p:nvGrpSpPr>
        <p:grpSpPr>
          <a:xfrm>
            <a:off x="571680" y="1785960"/>
            <a:ext cx="8130240" cy="4053600"/>
            <a:chOff x="571680" y="1785960"/>
            <a:chExt cx="8130240" cy="4053600"/>
          </a:xfrm>
        </p:grpSpPr>
        <p:cxnSp>
          <p:nvCxnSpPr>
            <p:cNvPr id="288" name="_s2052"/>
            <p:cNvCxnSpPr>
              <a:stCxn id="289" idx="0"/>
              <a:endCxn id="290" idx="2"/>
            </p:cNvCxnSpPr>
            <p:nvPr/>
          </p:nvCxnSpPr>
          <p:spPr>
            <a:xfrm flipV="1">
              <a:off x="7747560" y="4382640"/>
              <a:ext cx="2520" cy="4849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291" name="_s2053"/>
            <p:cNvCxnSpPr>
              <a:stCxn id="292" idx="0"/>
              <a:endCxn id="293" idx="2"/>
            </p:cNvCxnSpPr>
            <p:nvPr/>
          </p:nvCxnSpPr>
          <p:spPr>
            <a:xfrm flipV="1">
              <a:off x="6008760" y="4298400"/>
              <a:ext cx="2880" cy="5695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294" name="_s2054"/>
            <p:cNvCxnSpPr>
              <a:stCxn id="295" idx="0"/>
              <a:endCxn id="296" idx="2"/>
            </p:cNvCxnSpPr>
            <p:nvPr/>
          </p:nvCxnSpPr>
          <p:spPr>
            <a:xfrm flipV="1">
              <a:off x="4636440" y="4298400"/>
              <a:ext cx="2520" cy="5695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297" name="_s2055"/>
            <p:cNvCxnSpPr>
              <a:stCxn id="298" idx="0"/>
              <a:endCxn id="299" idx="2"/>
            </p:cNvCxnSpPr>
            <p:nvPr/>
          </p:nvCxnSpPr>
          <p:spPr>
            <a:xfrm flipV="1">
              <a:off x="3264840" y="4298400"/>
              <a:ext cx="2520" cy="5695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0" name="_s2056"/>
            <p:cNvCxnSpPr>
              <a:stCxn id="301" idx="0"/>
              <a:endCxn id="302" idx="2"/>
            </p:cNvCxnSpPr>
            <p:nvPr/>
          </p:nvCxnSpPr>
          <p:spPr>
            <a:xfrm flipV="1">
              <a:off x="1528200" y="4382640"/>
              <a:ext cx="2520" cy="4849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3" name="_s2057"/>
            <p:cNvCxnSpPr>
              <a:stCxn id="296" idx="0"/>
              <a:endCxn id="304" idx="2"/>
            </p:cNvCxnSpPr>
            <p:nvPr/>
          </p:nvCxnSpPr>
          <p:spPr>
            <a:xfrm flipV="1">
              <a:off x="4636440" y="2841840"/>
              <a:ext cx="2520" cy="484920"/>
            </a:xfrm>
            <a:prstGeom prst="bentConnector2">
              <a:avLst/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5" name="_s2058"/>
            <p:cNvCxnSpPr>
              <a:stCxn id="299" idx="0"/>
              <a:endCxn id="304" idx="2"/>
            </p:cNvCxnSpPr>
            <p:nvPr/>
          </p:nvCxnSpPr>
          <p:spPr>
            <a:xfrm flipH="1" flipV="1" rot="5400000">
              <a:off x="3708720" y="2398320"/>
              <a:ext cx="484920" cy="1372320"/>
            </a:xfrm>
            <a:prstGeom prst="bentConnector3">
              <a:avLst>
                <a:gd name="adj1" fmla="val 23551"/>
              </a:avLst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6" name="_s2059"/>
            <p:cNvCxnSpPr>
              <a:stCxn id="293" idx="0"/>
              <a:endCxn id="304" idx="2"/>
            </p:cNvCxnSpPr>
            <p:nvPr/>
          </p:nvCxnSpPr>
          <p:spPr>
            <a:xfrm flipV="1" rot="16200000">
              <a:off x="5079960" y="2397960"/>
              <a:ext cx="484920" cy="1372320"/>
            </a:xfrm>
            <a:prstGeom prst="bentConnector3">
              <a:avLst>
                <a:gd name="adj1" fmla="val 23551"/>
              </a:avLst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7" name="_s2060"/>
            <p:cNvCxnSpPr>
              <a:stCxn id="290" idx="0"/>
              <a:endCxn id="304" idx="2"/>
            </p:cNvCxnSpPr>
            <p:nvPr/>
          </p:nvCxnSpPr>
          <p:spPr>
            <a:xfrm flipV="1" rot="16200000">
              <a:off x="5949360" y="1528560"/>
              <a:ext cx="484920" cy="3111480"/>
            </a:xfrm>
            <a:prstGeom prst="bentConnector3">
              <a:avLst>
                <a:gd name="adj1" fmla="val 23551"/>
              </a:avLst>
            </a:prstGeom>
            <a:ln w="28440">
              <a:solidFill>
                <a:srgbClr val="4f271c"/>
              </a:solidFill>
              <a:miter/>
            </a:ln>
          </p:spPr>
        </p:cxnSp>
        <p:cxnSp>
          <p:nvCxnSpPr>
            <p:cNvPr id="308" name="_s2061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2840400" y="1530000"/>
              <a:ext cx="484920" cy="3108960"/>
            </a:xfrm>
            <a:prstGeom prst="bentConnector3">
              <a:avLst>
                <a:gd name="adj1" fmla="val 23551"/>
              </a:avLst>
            </a:prstGeom>
            <a:ln w="28440">
              <a:solidFill>
                <a:srgbClr val="4f271c"/>
              </a:solidFill>
              <a:miter/>
            </a:ln>
          </p:spPr>
        </p:cxnSp>
        <p:sp>
          <p:nvSpPr>
            <p:cNvPr id="304" name="_s2062"/>
            <p:cNvSpPr/>
            <p:nvPr/>
          </p:nvSpPr>
          <p:spPr>
            <a:xfrm>
              <a:off x="3682440" y="1785960"/>
              <a:ext cx="1908720" cy="1056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dc765"/>
              </a:solidFill>
              <a:miter/>
            </a:ln>
            <a:effectLst>
              <a:outerShdw dist="63504" dir="19383909" blurRad="0" rotWithShape="0">
                <a:srgbClr val="8dc7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3333ff"/>
                  </a:solidFill>
                  <a:latin typeface="Georgia"/>
                </a:rPr>
                <a:t>Соціально-побутова </a:t>
              </a:r>
              <a:endParaRPr b="1" lang="en-US" sz="13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3333ff"/>
                  </a:solidFill>
                  <a:latin typeface="Georgia"/>
                </a:rPr>
                <a:t>драма</a:t>
              </a:r>
              <a:endParaRPr b="1" lang="en-US" sz="13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_s2063"/>
            <p:cNvSpPr/>
            <p:nvPr/>
          </p:nvSpPr>
          <p:spPr>
            <a:xfrm>
              <a:off x="571680" y="3326760"/>
              <a:ext cx="1908720" cy="105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a8a14"/>
              </a:solidFill>
              <a:miter/>
            </a:ln>
            <a:effectLst>
              <a:outerShdw dist="63504" dir="19383909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омічна 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опера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_s2064"/>
            <p:cNvSpPr/>
            <p:nvPr/>
          </p:nvSpPr>
          <p:spPr>
            <a:xfrm>
              <a:off x="6793200" y="3326760"/>
              <a:ext cx="1908720" cy="105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a8a14"/>
              </a:solidFill>
              <a:miter/>
            </a:ln>
            <a:effectLst>
              <a:outerShdw dist="63504" dir="19383909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Етнографічно-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- побутова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рама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_s2065"/>
            <p:cNvSpPr/>
            <p:nvPr/>
          </p:nvSpPr>
          <p:spPr>
            <a:xfrm>
              <a:off x="5420880" y="3326760"/>
              <a:ext cx="1175400" cy="971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a8a14"/>
              </a:solidFill>
              <a:miter/>
            </a:ln>
            <a:effectLst>
              <a:outerShdw dist="63504" dir="19383909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одевіль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_s2066"/>
            <p:cNvSpPr/>
            <p:nvPr/>
          </p:nvSpPr>
          <p:spPr>
            <a:xfrm>
              <a:off x="2677320" y="3326760"/>
              <a:ext cx="1175400" cy="971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a8a14"/>
              </a:solidFill>
              <a:miter/>
            </a:ln>
            <a:effectLst>
              <a:outerShdw dist="63504" dir="19383909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рама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_s2067"/>
            <p:cNvSpPr/>
            <p:nvPr/>
          </p:nvSpPr>
          <p:spPr>
            <a:xfrm>
              <a:off x="4049280" y="3326760"/>
              <a:ext cx="1175400" cy="9716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a8a14"/>
              </a:solidFill>
              <a:miter/>
            </a:ln>
            <a:effectLst>
              <a:outerShdw dist="63504" dir="19383909" blurRad="0" rotWithShape="0">
                <a:srgbClr val="aa8a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Побутова 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комедія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_s2068"/>
            <p:cNvSpPr/>
            <p:nvPr/>
          </p:nvSpPr>
          <p:spPr>
            <a:xfrm>
              <a:off x="938160" y="4867920"/>
              <a:ext cx="1175400" cy="9684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891a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Наталка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Полтавка”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І.Котляревський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_s2069"/>
            <p:cNvSpPr/>
            <p:nvPr/>
          </p:nvSpPr>
          <p:spPr>
            <a:xfrm>
              <a:off x="2677320" y="4867920"/>
              <a:ext cx="1175400" cy="9684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891a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7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Щира любов, 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або Милий 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дорожче щастя”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Г.Квітка-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Основ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’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ненко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_s2070"/>
            <p:cNvSpPr/>
            <p:nvPr/>
          </p:nvSpPr>
          <p:spPr>
            <a:xfrm>
              <a:off x="4049280" y="4867920"/>
              <a:ext cx="1175400" cy="9716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891a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Сватання 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на Гончарівці”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Г.Квітка-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Основ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’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ненко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_s2071"/>
            <p:cNvSpPr/>
            <p:nvPr/>
          </p:nvSpPr>
          <p:spPr>
            <a:xfrm>
              <a:off x="5420880" y="4867920"/>
              <a:ext cx="1175400" cy="9684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891a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Бой-жінка”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Г.Квітка-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Основ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’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ненко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_s2072"/>
            <p:cNvSpPr/>
            <p:nvPr/>
          </p:nvSpPr>
          <p:spPr>
            <a:xfrm>
              <a:off x="7160040" y="4867920"/>
              <a:ext cx="1175400" cy="9684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891a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Чорноморський 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побут”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.Кухаренко</a:t>
              </a:r>
              <a:endParaRPr b="1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3" descr="2"/>
          <p:cNvPicPr/>
          <p:nvPr/>
        </p:nvPicPr>
        <p:blipFill>
          <a:blip r:embed="rId1"/>
          <a:stretch/>
        </p:blipFill>
        <p:spPr>
          <a:xfrm>
            <a:off x="500040" y="4287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4286160" y="4287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Михайло Старицький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uk-UA" sz="2800" spc="-1" strike="noStrike">
                <a:solidFill>
                  <a:srgbClr val="ffffff"/>
                </a:solidFill>
                <a:latin typeface="Comic Sans MS"/>
              </a:rPr>
              <a:t>(1840 – 1904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4286160" y="1471680"/>
            <a:ext cx="4000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Comic Sans MS"/>
              </a:rPr>
              <a:t>Організатор театральної справи в Україні, режисер і антрепренер, фундатор Всеросійського театрального товариства, видавець, перекладач, один з тих невтомних трудівників, чиєю подвижницькою працею живиться національна культура. </a:t>
            </a:r>
            <a:br>
              <a:rPr sz="2400"/>
            </a:br>
            <a:r>
              <a:rPr b="0" i="1" lang="uk-UA" sz="2400" spc="-1" strike="noStrike">
                <a:solidFill>
                  <a:srgbClr val="ffffff"/>
                </a:solidFill>
                <a:latin typeface="Comic Sans MS"/>
              </a:rPr>
              <a:t>Він був режисером врівень Кропивницькому.</a:t>
            </a:r>
            <a:br>
              <a:rPr sz="32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7dec9"/>
                </a:solidFill>
                <a:latin typeface="Lucida Sans Unicode"/>
              </a:rPr>
              <a:t>Марія Заньковецька     </a:t>
            </a:r>
            <a:br>
              <a:rPr sz="1600"/>
            </a:br>
            <a:r>
              <a:rPr b="1" lang="uk-UA" sz="1600" spc="-1" strike="noStrike">
                <a:solidFill>
                  <a:srgbClr val="e7dec9"/>
                </a:solidFill>
                <a:latin typeface="Lucida Sans Unicode"/>
              </a:rPr>
              <a:t>           (1860-1934)</a:t>
            </a:r>
            <a:endParaRPr b="0" lang="en-US" sz="1600" spc="-1" strike="noStrike">
              <a:solidFill>
                <a:srgbClr val="f9f9f9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214960" y="1428480"/>
            <a:ext cx="3471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8080"/>
                </a:solidFill>
                <a:latin typeface="Lucida Sans Unicode"/>
              </a:rPr>
              <a:t>В автобіографії 27 січня      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8080"/>
                </a:solidFill>
                <a:latin typeface="Lucida Sans Unicode"/>
              </a:rPr>
              <a:t>1921 року актриса запише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e7dec9"/>
                </a:solidFill>
                <a:latin typeface="Lucida Sans Unicode"/>
              </a:rPr>
              <a:t>Народилась я в 1860 році, 22 липня в селі Заньки Чернігівської губернії Ніжинського повіту в старій дворянській сім</a:t>
            </a:r>
            <a:r>
              <a:rPr b="1" i="1" lang="en-US" sz="1400" spc="-1" strike="noStrike">
                <a:solidFill>
                  <a:srgbClr val="e7dec9"/>
                </a:solidFill>
                <a:latin typeface="Lucida Sans Unicode"/>
              </a:rPr>
              <a:t>’</a:t>
            </a:r>
            <a:r>
              <a:rPr b="1" i="1" lang="uk-UA" sz="1400" spc="-1" strike="noStrike">
                <a:solidFill>
                  <a:srgbClr val="e7dec9"/>
                </a:solidFill>
                <a:latin typeface="Lucida Sans Unicode"/>
              </a:rPr>
              <a:t>ї поміщика К.Адасовського…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e7dec9"/>
                </a:solidFill>
                <a:latin typeface="Lucida Sans Unicode"/>
              </a:rPr>
              <a:t>Ще будучи пансіонеркою, я брала участь в учневих виставах і звернула на себе увагу всіх учителів, які радили мені прохати своїх батьків до театральної школи, але, за існуючими тоді поглядами і тенденціями традиційних дворян на акторів, про се не могло бути й мови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1500120" y="714240"/>
            <a:ext cx="37148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3:05:25Z</dcterms:created>
  <dc:creator>Alex</dc:creator>
  <dc:description/>
  <dc:language>en-US</dc:language>
  <cp:lastModifiedBy>User</cp:lastModifiedBy>
  <dcterms:modified xsi:type="dcterms:W3CDTF">2010-11-20T01:06:27Z</dcterms:modified>
  <cp:revision>33</cp:revision>
  <dc:subject/>
  <dc:title>Технология проведения «Мастер - класс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