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A51B-45DA-48C5-BC03-3DCD8D43B5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0B30-DDC8-4268-9ECD-F5BEEBB05C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0F28-7A77-4519-A2A5-E35E1E6DA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4F1E-5185-47C9-91B7-DBBD810F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E3E4-2E53-4B27-915D-8D41C5D96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9573-58EB-45F7-9FCB-3549345F5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9F1B-4A7B-4B34-ABA4-7D7A172B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6373-7C5E-48A2-B9B6-A5858345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0C0C-F1FF-44C0-9B59-2304A228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A589-9871-46BE-9EE0-B7ABD3A3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0312-66CA-4F7D-B22A-6F6EA470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3C56-E47B-4BDB-9E8E-8192B412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E558-0A7D-4DAC-919F-4CAF86CD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8E5B-A1A9-4D37-BBA3-4A8A476D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C976-0387-4683-8158-47C40002DB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dok.znaimo.com.ua/pars_docs/refs/7/6850/img0.jpg"/>
          <p:cNvPicPr/>
          <p:nvPr/>
        </p:nvPicPr>
        <p:blipFill>
          <a:blip r:embed="rId2"/>
          <a:stretch/>
        </p:blipFill>
        <p:spPr>
          <a:xfrm>
            <a:off x="755640" y="115920"/>
            <a:ext cx="7699320" cy="6553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000000"/>
                </a:solidFill>
                <a:latin typeface="Calibri"/>
              </a:rPr>
              <a:t>Робота в групах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8"/>
          <p:cNvSpPr/>
          <p:nvPr/>
        </p:nvSpPr>
        <p:spPr>
          <a:xfrm>
            <a:off x="1042920" y="1557360"/>
            <a:ext cx="3241800" cy="201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І груп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Битва під Жовтими Вода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( стор. 97 – 98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9"/>
          <p:cNvSpPr/>
          <p:nvPr/>
        </p:nvSpPr>
        <p:spPr>
          <a:xfrm>
            <a:off x="5435640" y="1557360"/>
            <a:ext cx="3240000" cy="1942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ІІ груп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Битва під Корсун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( стор. 98 - 9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11"/>
          <p:cNvSpPr/>
          <p:nvPr/>
        </p:nvSpPr>
        <p:spPr>
          <a:xfrm>
            <a:off x="1042920" y="3933720"/>
            <a:ext cx="3241800" cy="2159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ІІІ груп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Битва під  Пилявця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( стор. 100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12"/>
          <p:cNvSpPr/>
          <p:nvPr/>
        </p:nvSpPr>
        <p:spPr>
          <a:xfrm>
            <a:off x="5435640" y="3933720"/>
            <a:ext cx="3240000" cy="22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І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V</a:t>
            </a:r>
            <a:r>
              <a:rPr b="0" lang="uk-UA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груп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Визвольний похід українського війська на Галичин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( стор. 101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374328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група.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ацювати відповідний матеріал підручника, дайте відповіді на запитання.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е і коли відбулася битва під Жовтими Водами?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Хто був союзником Б. Хмельницького у цій битві?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 чому полягало значення перемоги козацького війська під Жовтими Водами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4"/>
          <p:cNvSpPr/>
          <p:nvPr/>
        </p:nvSpPr>
        <p:spPr>
          <a:xfrm>
            <a:off x="4572000" y="202320"/>
            <a:ext cx="4157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 група.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ацювати відповідний матеріал підручника, дайте відповіді на запитанн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Де і коли відбулася битва під Корсунем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2. Хто переміг у цій битві і завдяки чому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3. Наведіть факти, які свідчать про військовий талант Б. Хмельницьког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4. У чому полягали наслідки цієї битви для України та Польщі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7"/>
          <p:cNvSpPr/>
          <p:nvPr/>
        </p:nvSpPr>
        <p:spPr>
          <a:xfrm>
            <a:off x="395280" y="2941200"/>
            <a:ext cx="3456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 група.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ацювати відповідний матеріал підручника, дайте відповіді на запитанн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Де і коли відбулася битва під Пилявцям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2. Хто переміг у цій битві і завдяки чому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3. Наведіть факти, які свідчать про військовий талант Б. Хмельницьког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4. У чому полягали значення цієї битви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9"/>
          <p:cNvSpPr/>
          <p:nvPr/>
        </p:nvSpPr>
        <p:spPr>
          <a:xfrm>
            <a:off x="4356000" y="402804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4 група.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ацювати відповідний матеріал підручника, дайте відповіді на запитанн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Якими були результати визвольного походу українського війська в Галичину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Заповнення хронологічної таблиц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68360" y="1268280"/>
          <a:ext cx="8232840" cy="2952720"/>
        </p:xfrm>
        <a:graphic>
          <a:graphicData uri="http://schemas.openxmlformats.org/drawingml/2006/table">
            <a:tbl>
              <a:tblPr/>
              <a:tblGrid>
                <a:gridCol w="863640"/>
                <a:gridCol w="815760"/>
                <a:gridCol w="1729080"/>
                <a:gridCol w="1150920"/>
                <a:gridCol w="1800000"/>
                <a:gridCol w="1873440"/>
              </a:tblGrid>
              <a:tr h="87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/ 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ит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іде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чи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слід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83" name="Picture 2" descr="http://uateka.org/uploads/news/2011/08/25/50e88832a642ea58e6d7bb24112a0f3b65ed15bb.jpg"/>
          <p:cNvPicPr/>
          <p:nvPr/>
        </p:nvPicPr>
        <p:blipFill>
          <a:blip r:embed="rId2"/>
          <a:stretch/>
        </p:blipFill>
        <p:spPr>
          <a:xfrm>
            <a:off x="2916360" y="429264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dok.znaimo.com.ua/pars_docs/refs/7/6850/img5.jpg"/>
          <p:cNvPicPr/>
          <p:nvPr/>
        </p:nvPicPr>
        <p:blipFill>
          <a:blip r:embed="rId2"/>
          <a:stretch/>
        </p:blipFill>
        <p:spPr>
          <a:xfrm>
            <a:off x="611280" y="476280"/>
            <a:ext cx="8064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68360" y="981000"/>
          <a:ext cx="8169120" cy="5151600"/>
        </p:xfrm>
        <a:graphic>
          <a:graphicData uri="http://schemas.openxmlformats.org/drawingml/2006/table">
            <a:tbl>
              <a:tblPr/>
              <a:tblGrid>
                <a:gridCol w="574560"/>
                <a:gridCol w="1297080"/>
                <a:gridCol w="1008000"/>
                <a:gridCol w="1800360"/>
                <a:gridCol w="1511280"/>
                <a:gridCol w="1977840"/>
              </a:tblGrid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/ 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 бит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іде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чи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слід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итва під Жовтими Вод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–6 травня 1648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Хмельницький 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Потоць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отьба за територію Украї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ремога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йська Б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мельницьк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1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0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dok.znaimo.com.ua/pars_docs/refs/7/6850/img6.jpg"/>
          <p:cNvPicPr/>
          <p:nvPr/>
        </p:nvPicPr>
        <p:blipFill>
          <a:blip r:embed="rId2"/>
          <a:stretch/>
        </p:blipFill>
        <p:spPr>
          <a:xfrm>
            <a:off x="1042920" y="76500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468360" y="907920"/>
          <a:ext cx="8169120" cy="5383440"/>
        </p:xfrm>
        <a:graphic>
          <a:graphicData uri="http://schemas.openxmlformats.org/drawingml/2006/table">
            <a:tbl>
              <a:tblPr/>
              <a:tblGrid>
                <a:gridCol w="574560"/>
                <a:gridCol w="1297080"/>
                <a:gridCol w="1008000"/>
                <a:gridCol w="1800360"/>
                <a:gridCol w="1511280"/>
                <a:gridCol w="1977840"/>
              </a:tblGrid>
              <a:tr h="114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/ 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 бит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іде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чи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слід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итва під Жовтими Вод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–6 травня 1648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Хмельницький 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Потоць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отьба за територію Украї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ремога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йська Б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мельницьк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итва під Корсун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травня 1648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Хмельницький –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Потоць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отьба за територію Украї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ремога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йська Б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мельницьк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dok.znaimo.com.ua/pars_docs/refs/7/6850/img7.jpg"/>
          <p:cNvPicPr/>
          <p:nvPr/>
        </p:nvPicPr>
        <p:blipFill>
          <a:blip r:embed="rId2"/>
          <a:stretch/>
        </p:blipFill>
        <p:spPr>
          <a:xfrm>
            <a:off x="1258920" y="62064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468360" y="620640"/>
          <a:ext cx="8169120" cy="5472360"/>
        </p:xfrm>
        <a:graphic>
          <a:graphicData uri="http://schemas.openxmlformats.org/drawingml/2006/table">
            <a:tbl>
              <a:tblPr/>
              <a:tblGrid>
                <a:gridCol w="574560"/>
                <a:gridCol w="1297080"/>
                <a:gridCol w="1008000"/>
                <a:gridCol w="1944720"/>
                <a:gridCol w="1366920"/>
                <a:gridCol w="1977840"/>
              </a:tblGrid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/ 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 бит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іде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чи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слід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итва під Жовтими Вод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–6 травня 1648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Хмельницький 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Потоць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отьба за територію Украї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ремога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йська Б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мельницьк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итва під Корсун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травня 1648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Хмельницький –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Потоць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отьба за територію Украї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ремога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йська Б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мельницьк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итва під Пилявцям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13 вересня 1648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мельницький 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лавський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ецпольський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ор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отьба за територію Украї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ремога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йська Б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мельницьк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Хронологічна таблиц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68360" y="1197000"/>
          <a:ext cx="8169120" cy="4840200"/>
        </p:xfrm>
        <a:graphic>
          <a:graphicData uri="http://schemas.openxmlformats.org/drawingml/2006/table">
            <a:tbl>
              <a:tblPr/>
              <a:tblGrid>
                <a:gridCol w="431640"/>
                <a:gridCol w="1295640"/>
                <a:gridCol w="1152360"/>
                <a:gridCol w="2087640"/>
                <a:gridCol w="1368360"/>
                <a:gridCol w="18334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/ 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 бит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іде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чи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слід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4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итва під Жовтими Вод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–6 травня 1648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Хмельницький 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Потоць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отьба за територію Украї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ремога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йська Б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мельницьк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итва під Корсун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травня 1648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Хмельницький –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Потоць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отьба за територію Украї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ремога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йська Б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мельницьк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2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итва під Пилявцям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13 вересня 1648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мельницький 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лавський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ецпольський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ор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отьба за територію Украї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ремога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йська Б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мельницьк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2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хід на Галичи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овтень-листопад 1648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Хмельницький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Є. Вишневець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льнення Зах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дної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р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ї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нання Яна Казимира королем Речі Посполитої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cs410831.userapi.com/v410831263/51b0/e5ry-QfFO1I.jpg"/>
          <p:cNvPicPr/>
          <p:nvPr/>
        </p:nvPicPr>
        <p:blipFill>
          <a:blip r:embed="rId2"/>
          <a:stretch/>
        </p:blipFill>
        <p:spPr>
          <a:xfrm>
            <a:off x="179280" y="2997360"/>
            <a:ext cx="4896000" cy="3671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о –  визвольна війна українського народу середини Х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І ст. – це збройна боротьба українського народу за визволення від польсько – шляхетського пануванн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5003640" y="3500280"/>
            <a:ext cx="3787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0000"/>
                </a:solidFill>
                <a:latin typeface="Calibri"/>
              </a:rPr>
              <a:t>1648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0000"/>
                </a:solidFill>
                <a:latin typeface="Calibri"/>
              </a:rPr>
              <a:t>рік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Робота  з контурною карто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kovtunenko.at.ua/_ph/6/2/647412712.jpg"/>
          <p:cNvPicPr/>
          <p:nvPr/>
        </p:nvPicPr>
        <p:blipFill>
          <a:blip r:embed="rId2"/>
          <a:stretch/>
        </p:blipFill>
        <p:spPr>
          <a:xfrm>
            <a:off x="1116000" y="1484280"/>
            <a:ext cx="6912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ttp://school.xvatit.com/images/thumb/4/45/IstUkr8-povni-27-kart1.jpg/800px-IstUkr8-povni-27-kart1.jpg"/>
          <p:cNvPicPr/>
          <p:nvPr/>
        </p:nvPicPr>
        <p:blipFill>
          <a:blip r:embed="rId2"/>
          <a:stretch/>
        </p:blipFill>
        <p:spPr>
          <a:xfrm>
            <a:off x="1042920" y="1125360"/>
            <a:ext cx="7372440" cy="53150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Робота з карто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obuk.ru/uploads/posts/2011-03/1301471568_pavlo-zagrebelnyy-ya-bogdan2.jpg"/>
          <p:cNvPicPr/>
          <p:nvPr/>
        </p:nvPicPr>
        <p:blipFill>
          <a:blip r:embed="rId2"/>
          <a:stretch/>
        </p:blipFill>
        <p:spPr>
          <a:xfrm>
            <a:off x="108000" y="115920"/>
            <a:ext cx="3066840" cy="4762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http://meest-online.com/wp-content/uploads/2013/05/Monument_of_heroes_in_Zhovti_Vody-450x239.jpg"/>
          <p:cNvPicPr/>
          <p:nvPr/>
        </p:nvPicPr>
        <p:blipFill>
          <a:blip r:embed="rId3"/>
          <a:stretch/>
        </p:blipFill>
        <p:spPr>
          <a:xfrm>
            <a:off x="1476360" y="4437000"/>
            <a:ext cx="4286160" cy="2276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http://im4-tub-ua.yandex.net/i?id=19507984-54-72&amp;n=21"/>
          <p:cNvPicPr/>
          <p:nvPr/>
        </p:nvPicPr>
        <p:blipFill>
          <a:blip r:embed="rId4"/>
          <a:stretch/>
        </p:blipFill>
        <p:spPr>
          <a:xfrm>
            <a:off x="3203640" y="692280"/>
            <a:ext cx="2522520" cy="334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http://im2-tub-ua.yandex.net/i?id=166556613-51-72&amp;n=21"/>
          <p:cNvPicPr/>
          <p:nvPr/>
        </p:nvPicPr>
        <p:blipFill>
          <a:blip r:embed="rId5"/>
          <a:stretch/>
        </p:blipFill>
        <p:spPr>
          <a:xfrm>
            <a:off x="6156360" y="333360"/>
            <a:ext cx="2638440" cy="1428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http://butorrent.com/uploads/posts/2011-05-25/9873034.jpg"/>
          <p:cNvPicPr/>
          <p:nvPr/>
        </p:nvPicPr>
        <p:blipFill>
          <a:blip r:embed="rId6"/>
          <a:srcRect l="0" t="0" r="0" b="35"/>
          <a:stretch/>
        </p:blipFill>
        <p:spPr>
          <a:xfrm>
            <a:off x="5796000" y="1916280"/>
            <a:ext cx="321948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серега\Desktop\09207006.jpg"/>
          <p:cNvPicPr/>
          <p:nvPr/>
        </p:nvPicPr>
        <p:blipFill>
          <a:blip r:embed="rId2"/>
          <a:stretch/>
        </p:blipFill>
        <p:spPr>
          <a:xfrm>
            <a:off x="468360" y="907920"/>
            <a:ext cx="7907400" cy="5761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Пам'ятник Б. Хмельницькому в Кривому Розі на ХХ партз'їзд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http://photos.wikimapia.org/p/00/02/56/21/02_big.jpg"/>
          <p:cNvPicPr/>
          <p:nvPr/>
        </p:nvPicPr>
        <p:blipFill>
          <a:blip r:embed="rId2"/>
          <a:srcRect l="0" t="0" r="0" b="-32"/>
          <a:stretch/>
        </p:blipFill>
        <p:spPr>
          <a:xfrm>
            <a:off x="4716360" y="1052640"/>
            <a:ext cx="4068720" cy="540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серега\Desktop\sliiqyiy_bs.jpeg"/>
          <p:cNvPicPr/>
          <p:nvPr/>
        </p:nvPicPr>
        <p:blipFill>
          <a:blip r:embed="rId3"/>
          <a:srcRect l="0" t="0" r="157" b="0"/>
          <a:stretch/>
        </p:blipFill>
        <p:spPr>
          <a:xfrm>
            <a:off x="324000" y="260280"/>
            <a:ext cx="39146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00"/>
                </a:solidFill>
                <a:latin typeface="Calibri"/>
              </a:rPr>
              <a:t>Домашнє завдання </a:t>
            </a:r>
            <a:br>
              <a:rPr sz="4400"/>
            </a:b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рочитати і переказувати параграф 15, закінчити роботу в контурній карті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овторити устрій Війська Запорозького ( стор. 35  - 36 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ес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і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1. Дайте визначення поняття « національно – 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визвольна війна українського народу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ІІ ст..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2. В якому році розпочалася ця війна 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3. Хто очолював війну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4. У складі якої держави перебувала більшість українських земель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5. Хто такі козак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6. Чому селяни втікали на Січ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7. Хто такі реєстрові козаки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8. Чи були виступи козацтва в І половині 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ІІ ст.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Визначення причин, рушійних сил та характеру війн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10920" y="2205000"/>
            <a:ext cx="8064360" cy="34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Кожна група розподілить по підгрупах причини національно      –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извольної війни українського народу 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ІІ с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І та ІІ групи – рушійні си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ІІІ та І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групи – характер вій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країнські землі у складі Речі Посполито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http://uahistory.info/uploads/posts/1359153558_ukransk_zeml_u_1617_st.jpg"/>
          <p:cNvPicPr/>
          <p:nvPr/>
        </p:nvPicPr>
        <p:blipFill>
          <a:blip r:embed="rId2"/>
          <a:stretch/>
        </p:blipFill>
        <p:spPr>
          <a:xfrm>
            <a:off x="971640" y="1413000"/>
            <a:ext cx="7124760" cy="53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и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о –  визвольної війн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8920" y="836280"/>
            <a:ext cx="2521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Соціально – економічн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alibri"/>
              </a:rPr>
              <a:t>Зростання в Україні землеволодіння польських магнатів і шлях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alibri"/>
              </a:rPr>
              <a:t>Покріпачення селян і зростання панщин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alibri"/>
              </a:rPr>
              <a:t>Визиск з боку європейських орендарі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alibri"/>
              </a:rPr>
              <a:t>Утиски козацтва та міщан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alibri"/>
              </a:rPr>
              <a:t>Нерівність у правовому та політичному положенні української православної шляхти, іі утиски з боку польських магнатів та шлях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148360" y="836640"/>
            <a:ext cx="1727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000000"/>
                </a:solidFill>
                <a:latin typeface="Calibri"/>
              </a:rPr>
              <a:t>Релігійні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alibri"/>
              </a:rPr>
              <a:t>Наступ католицизму та уніатства на права та свободу УПЦ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alibri"/>
              </a:rPr>
              <a:t>Насильницьке окатоличення населенн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alibri"/>
              </a:rPr>
              <a:t>Впровадження обов'язкового податку для населення на утримання католицької та уніатської церк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alibri"/>
              </a:rPr>
              <a:t>Діяльність єзуїтів  в Україні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5"/>
          <p:cNvSpPr/>
          <p:nvPr/>
        </p:nvSpPr>
        <p:spPr>
          <a:xfrm>
            <a:off x="2771640" y="620640"/>
            <a:ext cx="2305080" cy="44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Національн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Обмеження українців  у правах при занятті урядових посад та в органах самоврядування міс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Оголошення другосортності та неповноцінності українці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6"/>
          <p:cNvSpPr/>
          <p:nvPr/>
        </p:nvSpPr>
        <p:spPr>
          <a:xfrm>
            <a:off x="7236000" y="836640"/>
            <a:ext cx="1584000" cy="58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  <a:ea typeface="Calibri"/>
              </a:rPr>
              <a:t>Обмеження прав козацтв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  <a:ea typeface="Calibri"/>
              </a:rPr>
              <a:t>1.  Ухвалення польським сеймом у 1638 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« Ординації Війська Запорозького 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2.  Придушення будь – яких виявів покозачення населенн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3.  Позбавлення реєстровців права обирати гетьмана й старши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4.  Перебування на Запоріжжі польських залог, будівництво фортеці Код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5.  Заборона козакам без згоди польського уряду організовувати походи проти Османської імперії  та Кримського хан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шійні сили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699920"/>
            <a:ext cx="4038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за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я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ща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славне духівниц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://ukraine-edu.com/pars_docs/refs/1/915/915_html_m11f0ca98.gif"/>
          <p:cNvPicPr/>
          <p:nvPr/>
        </p:nvPicPr>
        <p:blipFill>
          <a:blip r:embed="rId2"/>
          <a:stretch/>
        </p:blipFill>
        <p:spPr>
          <a:xfrm>
            <a:off x="4284720" y="1341360"/>
            <a:ext cx="446868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http://rpp.nashaucheba.ru/pars_docs/refs/5/4539/img3.jpg"/>
          <p:cNvPicPr/>
          <p:nvPr/>
        </p:nvPicPr>
        <p:blipFill>
          <a:blip r:embed="rId2"/>
          <a:stretch/>
        </p:blipFill>
        <p:spPr>
          <a:xfrm>
            <a:off x="2627280" y="1989000"/>
            <a:ext cx="6240600" cy="4680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 національно –  визвольної війни </a:t>
            </a: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6"/>
          <p:cNvSpPr/>
          <p:nvPr/>
        </p:nvSpPr>
        <p:spPr>
          <a:xfrm>
            <a:off x="395280" y="2133720"/>
            <a:ext cx="2089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вольн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іаль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ігій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785440" cy="5761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у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ш</a:t>
            </a:r>
            <a:r>
              <a:rPr b="0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моги війська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мельницького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ціонально –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вольній війні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http://i049.radikal.ru/0910/6e/16240438fdea.jpg"/>
          <p:cNvPicPr/>
          <p:nvPr/>
        </p:nvPicPr>
        <p:blipFill>
          <a:blip r:embed="rId2"/>
          <a:stretch/>
        </p:blipFill>
        <p:spPr>
          <a:xfrm>
            <a:off x="324000" y="1484280"/>
            <a:ext cx="281916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3T19:30:29Z</dcterms:created>
  <dc:creator>серега</dc:creator>
  <dc:description/>
  <dc:language>en-US</dc:language>
  <cp:lastModifiedBy>Admin</cp:lastModifiedBy>
  <dcterms:modified xsi:type="dcterms:W3CDTF">2014-03-24T07:37:02Z</dcterms:modified>
  <cp:revision>4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17000000000001024140</vt:lpwstr>
  </property>
</Properties>
</file>