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A66-3510-4E96-BE28-A92A14B21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269-C46D-4E94-9EAC-25D4281CB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704-194B-4EE2-957A-B4B05959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E34-FEB3-40A2-8281-BF8F5FF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28E-E02A-4BC4-B0D2-96017097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7ED-CE7D-4C80-8E30-41D8F8B9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FFBC-9DA3-4E35-AB64-8B887B3F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74BB-DDEE-4611-A1CC-8BE7B759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9A09-F5F8-48E8-AD53-239696E3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26D0-B74E-4656-9379-7142A9B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1263-ABD9-4731-B87F-183EBA9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280" y="18864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0B5A-4BD8-4119-8603-C222416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6C30-2BE1-4F44-9409-CF8889C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EA8-31D8-483F-A122-9806146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DA51-59FA-403C-AEC6-1EFCE36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B89B-1573-46E0-8274-5FF19E7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F52-D758-4B5D-93E0-DA1D223F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EB6D-4FFB-4028-A89B-4360B761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92D0-F032-4321-BA0C-ED126273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656-5DA7-4E74-AE79-62B92D2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1C5-46DE-46B5-A260-F8A03B82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DA6-8EC0-4511-AC39-BD9F6FA7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280" y="18864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CB6-8216-439B-8E4B-EEB3BB51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E53-5AD4-4485-A078-1836BAE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F13-6511-4240-81DB-C5B207B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978-9708-453C-B6EC-3155E0A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6" descr="линии голубые"/>
          <p:cNvPicPr/>
          <p:nvPr/>
        </p:nvPicPr>
        <p:blipFill>
          <a:blip r:embed="rId2"/>
          <a:srcRect l="0" t="523" r="0" b="5230"/>
          <a:stretch/>
        </p:blipFill>
        <p:spPr>
          <a:xfrm>
            <a:off x="-12600" y="9360"/>
            <a:ext cx="9171000" cy="6820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F977-3B54-4503-ADE4-44DDB23D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64208m"/>
          <p:cNvPicPr/>
          <p:nvPr/>
        </p:nvPicPr>
        <p:blipFill>
          <a:blip r:embed="rId3"/>
          <a:stretch/>
        </p:blipFill>
        <p:spPr>
          <a:xfrm>
            <a:off x="0" y="0"/>
            <a:ext cx="150012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280" y="188640"/>
            <a:ext cx="7210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130-EB96-4EB6-A02C-2EE9D3A82898}" type="slidenum">
              <a:rPr b="0" lang="en-US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492360" y="3500280"/>
            <a:ext cx="4967280" cy="7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Досягнення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4859280" y="4869000"/>
            <a:ext cx="34560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Урок "Я і Україна"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4 клас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9640" y="3212640"/>
            <a:ext cx="8436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Сила та розум                            а й та працює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Праця  сприяє успіху,              краса людин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Голова без розуму,                   за велике безділля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Як дбаєш -                                  як ліхтар без світл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Маленька праця краща           а лінощі стоять на заваді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Бджола мала,                             так і маєш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5" name="Прямая со стрелкой 15"/>
          <p:cNvCxnSpPr/>
          <p:nvPr/>
        </p:nvCxnSpPr>
        <p:spPr>
          <a:xfrm flipH="1">
            <a:off x="3784320" y="2642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96" name=""/>
          <p:cNvSpPr/>
          <p:nvPr/>
        </p:nvSpPr>
        <p:spPr>
          <a:xfrm>
            <a:off x="3203640" y="3500280"/>
            <a:ext cx="1944720" cy="4334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933720"/>
            <a:ext cx="1008000" cy="129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4437000"/>
            <a:ext cx="144000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869000"/>
            <a:ext cx="2592360" cy="865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56000" y="4436640"/>
            <a:ext cx="792360" cy="863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87640" y="3499920"/>
            <a:ext cx="2160720" cy="2305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80000" y="476280"/>
            <a:ext cx="45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Відновіть прислів"я</a:t>
            </a:r>
            <a:endParaRPr b="1" lang="en-US" sz="20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Чемпіон України з футболу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Заслужений майстер спорту з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футболу. Поряд з його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прізвищем звучить: “Динамо. Київ. Україна.” Здобув видатне досягнення у футболі – нагороду “Золотий м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’</a:t>
            </a: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яч”. Здобув Кубок Ліги Європейських чемпіонів.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5" name="Picture 4" descr="images2"/>
          <p:cNvPicPr/>
          <p:nvPr/>
        </p:nvPicPr>
        <p:blipFill>
          <a:blip r:embed="rId1"/>
          <a:stretch/>
        </p:blipFill>
        <p:spPr>
          <a:xfrm>
            <a:off x="179280" y="0"/>
            <a:ext cx="2575080" cy="3673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3564000" y="549360"/>
            <a:ext cx="432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Андрій Шевченк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1557360"/>
            <a:ext cx="8436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1979640" y="476280"/>
            <a:ext cx="6480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Секрет успіху від А. Шевченка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3564000" y="3284640"/>
            <a:ext cx="2305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Секрет успіху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0" name="WordArt 6"/>
          <p:cNvSpPr txBox="1"/>
          <p:nvPr/>
        </p:nvSpPr>
        <p:spPr>
          <a:xfrm rot="19915200">
            <a:off x="5724360" y="1988640"/>
            <a:ext cx="30686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Наполегливість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1" name="WordArt 7"/>
          <p:cNvSpPr txBox="1"/>
          <p:nvPr/>
        </p:nvSpPr>
        <p:spPr>
          <a:xfrm rot="19074000">
            <a:off x="463320" y="4600080"/>
            <a:ext cx="264132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Талант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2" name="WordArt 8"/>
          <p:cNvSpPr txBox="1"/>
          <p:nvPr/>
        </p:nvSpPr>
        <p:spPr>
          <a:xfrm rot="974400">
            <a:off x="5940000" y="3933720"/>
            <a:ext cx="299412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Працьовитість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3" name="WordArt 9"/>
          <p:cNvSpPr txBox="1"/>
          <p:nvPr/>
        </p:nvSpPr>
        <p:spPr>
          <a:xfrm rot="1375800">
            <a:off x="468000" y="2276640"/>
            <a:ext cx="29401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Натхнення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4" name="WordArt 10"/>
          <p:cNvSpPr txBox="1"/>
          <p:nvPr/>
        </p:nvSpPr>
        <p:spPr>
          <a:xfrm rot="18141000">
            <a:off x="3468600" y="1915560"/>
            <a:ext cx="23526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Досвід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5" name="WordArt 11"/>
          <p:cNvSpPr txBox="1"/>
          <p:nvPr/>
        </p:nvSpPr>
        <p:spPr>
          <a:xfrm rot="17229600">
            <a:off x="2670480" y="5181840"/>
            <a:ext cx="2230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Знання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84360" y="1628640"/>
            <a:ext cx="64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. Лобановський був довгий час тренером “Динамо”. Гравці завжди з повагою і вдячністю говорили про свого тренера. Його вважали другим найкращим тренером світу. Під керівництвом В. Лобановського “Динамо” двічі вигравав Кубок володарів кубків. Він був тренером збірної України. А ще має почесні звання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майстер спорт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служений трене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Герой Україн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Але у підніжжі свого досягнення був вихованцем футбольної школи, футболістом “Динамо” з 18 років. Наполегливість та праця піднесли його до вершини успіху. А після смерті В. Лобановського на його честь  названо стадіон у місті Києві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Picture 4" descr="images3"/>
          <p:cNvPicPr/>
          <p:nvPr/>
        </p:nvPicPr>
        <p:blipFill>
          <a:blip r:embed="rId1"/>
          <a:stretch/>
        </p:blipFill>
        <p:spPr>
          <a:xfrm>
            <a:off x="0" y="0"/>
            <a:ext cx="2324160" cy="3213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2916360" y="476280"/>
            <a:ext cx="496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Валерій Лобановський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24360" y="1125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1939-2002 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Олег  Блохін  - радянський футболіст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(нападник), володар безлічі рекордів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радянського футболу. Після закінчення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кар'єри футболіста став тренером. В даний час –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головний тренер збірної України з футбол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Олег Володимирович вважається одним з кращих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футболістів в історії радянського футболу Володар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«Золотого м'яча» (1975). Майстер спорту міжнародного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класу СРСР (1975), Заслужений майстер спорту СРСР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uk-UA" sz="2500" spc="-1" strike="noStrike">
                <a:solidFill>
                  <a:srgbClr val="000000"/>
                </a:solidFill>
                <a:latin typeface="Constantia"/>
              </a:rPr>
              <a:t>(1975), заслужений тренер України (2005)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4" descr="250px-Oleg_Blokhin"/>
          <p:cNvPicPr/>
          <p:nvPr/>
        </p:nvPicPr>
        <p:blipFill>
          <a:blip r:embed="rId1"/>
          <a:stretch/>
        </p:blipFill>
        <p:spPr>
          <a:xfrm>
            <a:off x="0" y="0"/>
            <a:ext cx="1905120" cy="24922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2700360" y="62064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Олег Блохін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Школярі всі дружно встали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Фізкультхвилинку розпочали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Руки гарно розім’яли,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Як Кличко побоксували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Як Шевченко у футболі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Забиваємо ми голи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Всі, як Бубка, пострибали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І за парти посідали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03640" y="476280"/>
            <a:ext cx="439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Фізкультхвилинка</a:t>
            </a:r>
            <a:endParaRPr b="1" lang="en-US" sz="20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22654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360" y="1341360"/>
            <a:ext cx="83930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Леся Українка - відома поетеса і письменниц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олодимир і Віталій Клички - чемпіони з бокс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Катерина Білокур - відома художниц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Яна Клочкова – олімпійська чемпіонка з плаванн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Микола Лисенко – видатний композит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Леонід Каденюк – перший космонавт Украї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услана Лежичко – народна артистка Украї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ергій Бубка – чемпіон світу з легкої атлет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Тарас Шевченко – автор відомої книжки “Кобзар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Богдан Ступка – актор, народний артист Украї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асиль Вірастюк – найсильніша людина Украї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Олександр Пономарьов – народний артист Україн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8360" y="404640"/>
            <a:ext cx="583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Кому яке досягнення належить?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3132000" y="2565360"/>
            <a:ext cx="259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Поради мрійникам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1835280" y="1052640"/>
            <a:ext cx="27144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Знання  - скарб людини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0" name="WordArt 8"/>
          <p:cNvSpPr txBox="1"/>
          <p:nvPr/>
        </p:nvSpPr>
        <p:spPr>
          <a:xfrm>
            <a:off x="5219640" y="105264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Під лежачий камін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вода не теч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179280" y="3860640"/>
            <a:ext cx="2376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Зробив діло - 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гуляй сміло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2" name="WordArt 10"/>
          <p:cNvSpPr txBox="1"/>
          <p:nvPr/>
        </p:nvSpPr>
        <p:spPr>
          <a:xfrm>
            <a:off x="6156360" y="3789360"/>
            <a:ext cx="2658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Без охоти нема роботи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3" name="WordArt 11"/>
          <p:cNvSpPr txBox="1"/>
          <p:nvPr/>
        </p:nvSpPr>
        <p:spPr>
          <a:xfrm>
            <a:off x="2987640" y="407664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З самого початку думай,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яким буде кінец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899640" y="2852640"/>
            <a:ext cx="1871640" cy="8636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5867280" y="2781360"/>
            <a:ext cx="2160720" cy="934920"/>
          </a:xfrm>
          <a:prstGeom prst="line">
            <a:avLst/>
          </a:prstGeom>
          <a:ln w="1908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H="1" flipV="1">
            <a:off x="2700000" y="1484280"/>
            <a:ext cx="863640" cy="1008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 flipV="1">
            <a:off x="5003640" y="1413000"/>
            <a:ext cx="720720" cy="1079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4356000" y="3068640"/>
            <a:ext cx="0" cy="936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1:05:58Z</dcterms:created>
  <dc:creator>Lenovo</dc:creator>
  <dc:description/>
  <dc:language>en-US</dc:language>
  <cp:lastModifiedBy>Admin</cp:lastModifiedBy>
  <dcterms:modified xsi:type="dcterms:W3CDTF">2012-02-03T13:46:44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4000000000001024140</vt:lpwstr>
  </property>
</Properties>
</file>