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6514-7E6C-4C86-886F-086ECCF272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2218-2D45-4DEC-A7F8-924490A560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86BA-3335-448A-9CC8-FFA02BC8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662A-5A45-4885-8B42-03D4B866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5BFA-6D0A-4F78-8801-F35D5AD2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51C2-7DFB-452D-8917-1B94E6A55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7776-B3FC-4869-8DC7-FDFBF109A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0B4B-2043-4595-A3E4-4990A338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FF04-D3AE-4EE7-B633-CCEA41A1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0D0D-CC19-4C60-AB83-193576EE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0FFB-9E89-491E-B3A6-F99771E4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58D5-C6DE-4340-851D-49639456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D28C-9427-47AE-BDE2-AD78C032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9E0C-AEC4-4A0D-A46E-79909905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3B22-BFD5-462A-B22E-6CB51B11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501F-09A9-4627-AF73-EC1F6FCC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D99A-07B9-42CC-AB49-9F829B82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89CC-2FEA-4F07-AE75-EF0F3383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8EFE-EF2A-4B5B-B578-CA1F8E98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698FB-0754-4174-B1E3-0A135B4E5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538B9-EF4C-48F1-8D2D-5801BB8F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B5AC9-047D-4AFE-8E25-9A73A8B4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335F5-EC40-4BA6-B832-7E9023B2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98C5E-0FB8-4D98-9EBA-FFFFC4AA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6D4E-4B33-4298-AB80-48ECB0F7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391C5-3B28-43A4-8A8A-2A597529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E222F-8229-4775-A2EA-29B329EC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8621B-621D-4028-B51D-3B3AF93A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6DF10-01B5-4CBC-9065-10C2A8DD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784D2-4249-46EE-9159-2073068F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6E8CA-9DE6-434E-A743-BC7FC118D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CE0F7-29D6-4C1E-AFF4-0D46A1A2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BF443-10ED-428E-84C1-F9ACDF879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98691-FD1E-47ED-88E7-31298532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C5D61-8D41-42F2-A5B5-F92BC70A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AD86-4447-4F66-90B2-F1AA6DEF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94E16-7D10-4161-A57A-FF4746E1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E2120-E2A8-4B4D-A4A0-4219B9FD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B33F8-16A5-45E7-B40A-EC8C1253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21E19-0FCD-44F2-9AB4-D89B43DB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E1CA7-DE91-4DFB-87A8-AE15BFE2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B777A-8A15-4C2B-AC70-E843D289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76175-9A96-4593-8C01-8FCDD0F9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5C976-5E0D-4D9E-82F0-25A553E3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7BBB1-DFE7-4F37-B29C-E6FE136A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73098-DA9F-4112-8299-6B85BF76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61F2-F94F-49CE-90B7-1340E121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C85AB-1E34-4664-B203-D12F0C1F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A8260-6F10-415F-B9A0-EE4A8C3C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43FBC-4FC8-4063-9062-53C9A588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34C5D-13FE-4FFB-B68B-16F39199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0CC3B-B6A1-4D71-A286-51C2D304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10D4C-F664-45E0-8308-CEBFB25C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C77F1-F3C6-49B4-A876-B03F35A5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F116F-FA0C-4188-AE93-77E45906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BB83A-5C1F-426A-85FD-5299D799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B87E9-1F4E-48CB-A2C0-215F7762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F727-2D8B-44D1-AC2D-2988C4F1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CFE4F-DC9D-4CBA-A20C-5AB933B3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6181D-47D5-4752-834F-089D264EA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16BC8-1DC5-44E9-A98E-58E8E77A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3A21D-4A6C-49E1-B382-5585A297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CF685-0EAE-4A95-82FE-BE966297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99092-D11F-4415-94AA-F98C45B9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59B81-C6A5-409C-8325-DC3F5AA0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63A7E-DF3A-4CAA-86BE-4F61E60B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AFB78-42D2-4C7C-BFF8-5CAC8EDE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CF1B6-6A13-45ED-9FFB-B887086E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7967-4A38-42A9-860E-19AA370C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64E0B-A5A8-4B95-A05F-8EEF4157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9E29A-5866-4129-A183-FA328F77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B393B-6702-45EA-A347-89C1B76B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61AB3-7F33-41DC-A29D-A69A8C960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54E54-9D70-4C85-B048-8379B1E9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909C6-CD55-4EC3-B651-972ADFD0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F4055-8A67-49D5-8062-08AA4441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366D3-A549-490D-9E21-55F9DE59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2586D-4F8E-457F-A9A0-0923FD09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5A713-5F95-474B-ABA8-161043AF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876E-A362-44D8-AB61-CF7875CE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CE0DC-859C-4C77-AE96-37C49F06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3A74F-B3A2-4F01-957D-101932FF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7B0EC-0626-4B52-97ED-FB192EE6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668D2-E8CE-44DC-BECE-5B3EEF13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DEE5A-FE30-43F3-A755-FADBEADA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0DD4-58D8-4682-9C41-C14377DA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4E85-660F-463E-89FA-9356E90B7E9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9E08-BF15-4B2B-AF78-1BBFC2BB697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BA81-675B-4BE2-BA7F-54614AB4C8E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E1CF-1B84-4FD1-836C-184DEE6FB86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F2F6-3AC7-4528-B7F6-3C4EF510224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00D8-342D-4F7A-99EE-DD5D35B063F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75FA-5531-4DFE-9D1C-A5D4206CED5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0;&#1086;&#1088;&#1086;&#1083;&#1100;_&#1064;&#1086;&#1090;&#1083;&#1072;&#1085;&#1076;&#1080;&#1080;" TargetMode="External"/><Relationship Id="rId3" Type="http://schemas.openxmlformats.org/officeDocument/2006/relationships/hyperlink" Target="http://ru.wikipedia.org/wiki/14_&#1076;&#1077;&#1082;&#1072;&#1073;&#1088;&#1103;" TargetMode="External"/><Relationship Id="rId4" Type="http://schemas.openxmlformats.org/officeDocument/2006/relationships/hyperlink" Target="http://ru.wikipedia.org/wiki/1542" TargetMode="External"/><Relationship Id="rId5" Type="http://schemas.openxmlformats.org/officeDocument/2006/relationships/hyperlink" Target="http://ru.wikipedia.org/wiki/24_&#1080;&#1102;&#1083;&#1103;" TargetMode="External"/><Relationship Id="rId6" Type="http://schemas.openxmlformats.org/officeDocument/2006/relationships/hyperlink" Target="http://ru.wikipedia.org/wiki/1567" TargetMode="External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1553" TargetMode="External"/><Relationship Id="rId3" Type="http://schemas.openxmlformats.org/officeDocument/2006/relationships/hyperlink" Target="http://ru.wikipedia.org/wiki/1558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c00000"/>
                </a:solidFill>
                <a:latin typeface="Arial Black"/>
              </a:rPr>
              <a:t>АНГЛІЯ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85880" y="6286320"/>
            <a:ext cx="785808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6" name="Picture 4" descr=""/>
          <p:cNvPicPr/>
          <p:nvPr/>
        </p:nvPicPr>
        <p:blipFill>
          <a:blip r:embed="rId2"/>
          <a:stretch/>
        </p:blipFill>
        <p:spPr>
          <a:xfrm>
            <a:off x="214200" y="928800"/>
            <a:ext cx="8715600" cy="52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 Black"/>
              </a:rPr>
              <a:t>Єлизавета  І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785840" y="928440"/>
            <a:ext cx="43578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Королева Англії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1558-160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  <a:ea typeface="Arial"/>
              </a:rPr>
              <a:t>Найбільш  яскрава  представниця  англійського  абсолютизму.  За часів її правління розпочалася відчутна активізація зовнішньої політики Англії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  <a:ea typeface="Arial"/>
              </a:rPr>
              <a:t>Політика Єлизавети була спрямована на об’єднання Англії з Шотландією й приєднання Ірландії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2"/>
          <a:stretch/>
        </p:blipFill>
        <p:spPr>
          <a:xfrm>
            <a:off x="285840" y="785880"/>
            <a:ext cx="42210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Arial Black"/>
              </a:rPr>
              <a:t>Марія Стюар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5000400" y="2000160"/>
            <a:ext cx="38574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королева Шотланди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14 декабря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1542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 — 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24 июля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1567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7"/>
          <a:stretch/>
        </p:blipFill>
        <p:spPr>
          <a:xfrm>
            <a:off x="214200" y="857160"/>
            <a:ext cx="472284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0908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Боротьба  двох  королев —  протестантки  Єлизавети  і  католички Марії — відображала загальну ситуацію в Європі: протистояння реформаційних і контрреформаційних сил.</a:t>
            </a:r>
            <a:br>
              <a:rPr sz="1800"/>
            </a:br>
            <a:r>
              <a:rPr b="1" lang="en-US" sz="2400" spc="-1" strike="noStrike">
                <a:solidFill>
                  <a:srgbClr val="ff33cc"/>
                </a:solidFill>
                <a:latin typeface="Arial"/>
                <a:ea typeface="Arial"/>
              </a:rPr>
              <a:t>Єлизавета І                           Марія Стюарт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2" name="Текст 2" descr=""/>
          <p:cNvPicPr/>
          <p:nvPr/>
        </p:nvPicPr>
        <p:blipFill>
          <a:blip r:embed="rId2"/>
          <a:stretch/>
        </p:blipFill>
        <p:spPr>
          <a:xfrm>
            <a:off x="4890960" y="1413000"/>
            <a:ext cx="3541680" cy="4741560"/>
          </a:xfrm>
          <a:prstGeom prst="rect">
            <a:avLst/>
          </a:prstGeom>
          <a:ln w="0">
            <a:noFill/>
          </a:ln>
        </p:spPr>
      </p:pic>
      <p:pic>
        <p:nvPicPr>
          <p:cNvPr id="333" name="Текст 2" descr=""/>
          <p:cNvPicPr/>
          <p:nvPr/>
        </p:nvPicPr>
        <p:blipFill>
          <a:blip r:embed="rId3"/>
          <a:stretch/>
        </p:blipFill>
        <p:spPr>
          <a:xfrm>
            <a:off x="457200" y="1413000"/>
            <a:ext cx="368316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920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Френсіс Дрейк</a:t>
            </a:r>
            <a:br>
              <a:rPr sz="1800"/>
            </a:b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англійський пірат, навігатор, работорговець, політик та </a:t>
            </a:r>
            <a:br>
              <a:rPr sz="2000"/>
            </a:b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інженер, який здійснив другу кругосвітню подорож та ряд географічних відкриттів у Новому Світі. Був піратом Її Королівської Величності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5" name="Текст 2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3600360" cy="4824360"/>
          </a:xfrm>
          <a:prstGeom prst="rect">
            <a:avLst/>
          </a:prstGeom>
          <a:ln w="0">
            <a:noFill/>
          </a:ln>
        </p:spPr>
      </p:pic>
      <p:pic>
        <p:nvPicPr>
          <p:cNvPr id="336" name="Текст 2" descr=""/>
          <p:cNvPicPr/>
          <p:nvPr/>
        </p:nvPicPr>
        <p:blipFill>
          <a:blip r:embed="rId3"/>
          <a:stretch/>
        </p:blipFill>
        <p:spPr>
          <a:xfrm>
            <a:off x="4859280" y="1700280"/>
            <a:ext cx="3529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858160" cy="21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 Black"/>
              </a:rPr>
              <a:t>ДОМАШНЕ ЗАВДАННЯ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28400" y="3886200"/>
            <a:ext cx="8715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1.  Опрацювати матеріал підручника (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&amp;</a:t>
            </a:r>
            <a:r>
              <a:rPr b="1" lang="uk-UA" sz="2800" spc="-1" strike="noStrike">
                <a:solidFill>
                  <a:srgbClr val="c00000"/>
                </a:solidFill>
                <a:latin typeface="Arial"/>
                <a:ea typeface="Arial"/>
              </a:rPr>
              <a:t> 10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2.  Позначити на контурній карті центри, в яких розвивалось мануфактурне виробництво в Англії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2"/>
          <a:stretch/>
        </p:blipFill>
        <p:spPr>
          <a:xfrm>
            <a:off x="4500720" y="1000080"/>
            <a:ext cx="43304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Arial Black"/>
              </a:rPr>
              <a:t>СЕНКАН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214200" y="714240"/>
          <a:ext cx="8715600" cy="3357720"/>
        </p:xfrm>
        <a:graphic>
          <a:graphicData uri="http://schemas.openxmlformats.org/drawingml/2006/table">
            <a:tbl>
              <a:tblPr/>
              <a:tblGrid>
                <a:gridCol w="3143520"/>
                <a:gridCol w="2885760"/>
                <a:gridCol w="2686320"/>
              </a:tblGrid>
              <a:tr h="33577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  <a:ea typeface="Arial"/>
                        </a:rPr>
                        <a:t>Ф. Дрей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міливий, хитрий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неврував, воював, перемагав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ренсіс Дрейк — це пірат, який допоміг Англії подолати «Непереможну армаду» іспанців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іліпп 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  <a:ea typeface="Arial"/>
                        </a:rPr>
                        <a:t>«Непереможна армада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елика, могутн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оротися, нападати,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зкида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Непереможна армада» — це іспанський флот, який мав завоювати Англію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реможе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  <a:ea typeface="Arial"/>
                        </a:rPr>
                        <a:t>Єлизавета 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зумна, освічен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войовувати, розширяти, страчува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Єлизавету I Тюдор називали «Великою королевою»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рія Стюар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2" name="Picture 1" descr=""/>
          <p:cNvPicPr/>
          <p:nvPr/>
        </p:nvPicPr>
        <p:blipFill>
          <a:blip r:embed="rId2"/>
          <a:stretch/>
        </p:blipFill>
        <p:spPr>
          <a:xfrm>
            <a:off x="714240" y="4143240"/>
            <a:ext cx="2057400" cy="25005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"/>
          <p:cNvPicPr/>
          <p:nvPr/>
        </p:nvPicPr>
        <p:blipFill>
          <a:blip r:embed="rId3"/>
          <a:stretch/>
        </p:blipFill>
        <p:spPr>
          <a:xfrm>
            <a:off x="3419640" y="4214880"/>
            <a:ext cx="2679480" cy="23572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"/>
          <p:cNvPicPr/>
          <p:nvPr/>
        </p:nvPicPr>
        <p:blipFill>
          <a:blip r:embed="rId4"/>
          <a:stretch/>
        </p:blipFill>
        <p:spPr>
          <a:xfrm>
            <a:off x="6588000" y="4149720"/>
            <a:ext cx="198468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cc"/>
                </a:solidFill>
                <a:latin typeface="Arial"/>
              </a:rPr>
              <a:t>План: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66ff33"/>
                </a:solidFill>
                <a:latin typeface="Arial"/>
              </a:rPr>
              <a:t>Зміни в англійському суспільстві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66ff33"/>
                </a:solidFill>
                <a:latin typeface="Arial"/>
              </a:rPr>
              <a:t>Королівська Реформаці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66ff33"/>
                </a:solidFill>
                <a:latin typeface="Arial"/>
              </a:rPr>
              <a:t>Єлизавета І. Прихід до влади династії Стюартів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4448160" cy="6407280"/>
          </a:xfrm>
          <a:prstGeom prst="rect">
            <a:avLst/>
          </a:prstGeom>
          <a:ln w="0">
            <a:noFill/>
          </a:ln>
        </p:spPr>
      </p:pic>
      <p:pic>
        <p:nvPicPr>
          <p:cNvPr id="302" name="Текст 2" descr=""/>
          <p:cNvPicPr/>
          <p:nvPr/>
        </p:nvPicPr>
        <p:blipFill>
          <a:blip r:embed="rId4"/>
          <a:stretch/>
        </p:blipFill>
        <p:spPr>
          <a:xfrm>
            <a:off x="4284720" y="260280"/>
            <a:ext cx="2624040" cy="25066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4932360" y="3789360"/>
            <a:ext cx="6869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Arial"/>
              </a:rPr>
              <a:t>Біло-черво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Arial"/>
              </a:rPr>
              <a:t>троянда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Arial"/>
              </a:rPr>
              <a:t>емблема </a:t>
            </a: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3333ff"/>
                </a:solidFill>
                <a:latin typeface="Arial"/>
              </a:rPr>
              <a:t>Тюдор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"/>
          <p:cNvPicPr/>
          <p:nvPr/>
        </p:nvPicPr>
        <p:blipFill>
          <a:blip r:embed="rId2"/>
          <a:stretch/>
        </p:blipFill>
        <p:spPr>
          <a:xfrm>
            <a:off x="285840" y="785880"/>
            <a:ext cx="6643440" cy="44290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"/>
          <p:cNvPicPr/>
          <p:nvPr/>
        </p:nvPicPr>
        <p:blipFill>
          <a:blip r:embed="rId3"/>
          <a:stretch/>
        </p:blipFill>
        <p:spPr>
          <a:xfrm>
            <a:off x="7000920" y="3714840"/>
            <a:ext cx="1928880" cy="264312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42600" y="214200"/>
            <a:ext cx="7715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Обгороджування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0" y="5143320"/>
            <a:ext cx="692928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Ваші  вівці  зазвичай такі  спокійні,  задоволені  дріб’язком, тепер,  кажуть, стали такими ненажерливими і неприборканими, що їдять навіть людей і спустошують поля, будинки, міста.</a:t>
            </a:r>
            <a:r>
              <a:rPr b="1" lang="uk-UA" sz="1800" spc="-1" strike="noStrike">
                <a:solidFill>
                  <a:srgbClr val="c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Т. Мор «Утопія»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TextBox 9"/>
          <p:cNvSpPr/>
          <p:nvPr/>
        </p:nvSpPr>
        <p:spPr>
          <a:xfrm>
            <a:off x="6929280" y="63579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Arial"/>
              </a:rPr>
              <a:t>Томас М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Криваве  законодавств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714560" y="1142640"/>
            <a:ext cx="41432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Цим законодавством вводилися жорстокі покарання для осіб, звинувачених в бродяженні і в збиранні милостині без дозволу властей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Головними жертвами цих репресій були селяни, зігнані із землі в результаті огроджуванн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2"/>
          <a:stretch/>
        </p:blipFill>
        <p:spPr>
          <a:xfrm>
            <a:off x="428760" y="785880"/>
            <a:ext cx="428616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7868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Корол</a:t>
            </a:r>
            <a:r>
              <a:rPr b="0" lang="uk-UA" sz="4400" spc="-1" strike="noStrike">
                <a:solidFill>
                  <a:srgbClr val="c00000"/>
                </a:solidFill>
                <a:latin typeface="Arial Black"/>
              </a:rPr>
              <a:t>і Англії </a:t>
            </a: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кін. XV — І пол. XVI століт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TextBox 8"/>
          <p:cNvSpPr/>
          <p:nvPr/>
        </p:nvSpPr>
        <p:spPr>
          <a:xfrm>
            <a:off x="6143760" y="514368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Едвард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VI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1547- 155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Box 10"/>
          <p:cNvSpPr/>
          <p:nvPr/>
        </p:nvSpPr>
        <p:spPr>
          <a:xfrm>
            <a:off x="214200" y="5143680"/>
            <a:ext cx="292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Генріх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VII </a:t>
            </a:r>
            <a:r>
              <a:rPr b="1" lang="uk-UA" sz="1800" spc="-1" strike="noStrike">
                <a:solidFill>
                  <a:srgbClr val="c00000"/>
                </a:solidFill>
                <a:latin typeface="Arial"/>
              </a:rPr>
              <a:t>(1485-150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заклав основи  абсолютизм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8" descr=""/>
          <p:cNvPicPr/>
          <p:nvPr/>
        </p:nvPicPr>
        <p:blipFill>
          <a:blip r:embed="rId2"/>
          <a:stretch/>
        </p:blipFill>
        <p:spPr>
          <a:xfrm>
            <a:off x="214200" y="1428840"/>
            <a:ext cx="2765520" cy="36432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9" descr=""/>
          <p:cNvPicPr/>
          <p:nvPr/>
        </p:nvPicPr>
        <p:blipFill>
          <a:blip r:embed="rId3"/>
          <a:stretch/>
        </p:blipFill>
        <p:spPr>
          <a:xfrm>
            <a:off x="3071880" y="1428840"/>
            <a:ext cx="2643120" cy="3643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0" descr=""/>
          <p:cNvPicPr/>
          <p:nvPr/>
        </p:nvPicPr>
        <p:blipFill>
          <a:blip r:embed="rId4"/>
          <a:stretch/>
        </p:blipFill>
        <p:spPr>
          <a:xfrm>
            <a:off x="5857920" y="1428840"/>
            <a:ext cx="2786040" cy="3643200"/>
          </a:xfrm>
          <a:prstGeom prst="rect">
            <a:avLst/>
          </a:prstGeom>
          <a:ln w="0">
            <a:noFill/>
          </a:ln>
        </p:spPr>
      </p:pic>
      <p:sp>
        <p:nvSpPr>
          <p:cNvPr id="318" name="TextBox 21"/>
          <p:cNvSpPr/>
          <p:nvPr/>
        </p:nvSpPr>
        <p:spPr>
          <a:xfrm>
            <a:off x="3143160" y="5103720"/>
            <a:ext cx="257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ГенріхVIII (1509-1547) розірвав відносини з папством, оголосив себе главою англійської церкв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Порівняння англіканства з католицизмом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214200" y="1378080"/>
          <a:ext cx="8715600" cy="5054400"/>
        </p:xfrm>
        <a:graphic>
          <a:graphicData uri="http://schemas.openxmlformats.org/drawingml/2006/table">
            <a:tbl>
              <a:tblPr/>
              <a:tblGrid>
                <a:gridCol w="3279960"/>
                <a:gridCol w="2530440"/>
                <a:gridCol w="2905200"/>
              </a:tblGrid>
              <a:tr h="51408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c00000"/>
                          </a:solidFill>
                          <a:latin typeface="Arial Black"/>
                          <a:ea typeface="Calibri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Arial Black"/>
                          <a:ea typeface="Calibri"/>
                        </a:rPr>
                        <a:t>нгліканська церк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c00000"/>
                          </a:solidFill>
                          <a:latin typeface="Arial Black"/>
                          <a:ea typeface="Calibri"/>
                        </a:rPr>
                        <a:t>С</a:t>
                      </a: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Arial Black"/>
                          <a:ea typeface="Calibri"/>
                        </a:rPr>
                        <a:t>пільн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Arial Black"/>
                          <a:ea typeface="Calibri"/>
                        </a:rPr>
                        <a:t>Католицька церк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03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Главою церкви є король (королева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богослужіння проводиться англійською мово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зачинено монастирі й каплиці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заборона шанувати ікони, продавати індульгенції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пуритани — за дешеву церкву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проти богослужі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Збереження церковної ієрархії духовенства, яку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очолювали єпископ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обряд хрещенн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був однаковим дл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обох церков (д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сер. XVIII ст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Главою церкви є пап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римський; богослужіння проводиться латино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вільне існування монастирів;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шанування ікон, продаж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індульгенцій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богослужіння підтриму</a:t>
                      </a:r>
                      <a:r>
                        <a:rPr b="1" lang="uk-UA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 -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вались як необхідні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549000"/>
            <a:ext cx="8147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33cc"/>
                </a:solidFill>
                <a:latin typeface="Arial"/>
              </a:rPr>
              <a:t>Англіканська церква</a:t>
            </a:r>
            <a:r>
              <a:rPr b="1" lang="uk-UA" sz="6000" spc="-1" strike="noStrike">
                <a:solidFill>
                  <a:srgbClr val="3333ff"/>
                </a:solidFill>
                <a:latin typeface="Arial"/>
              </a:rPr>
              <a:t> – державна церква у Англії , утворена  в країні у Х</a:t>
            </a:r>
            <a:r>
              <a:rPr b="1" lang="en-US" sz="6000" spc="-1" strike="noStrike">
                <a:solidFill>
                  <a:srgbClr val="3333ff"/>
                </a:solidFill>
                <a:latin typeface="Arial"/>
              </a:rPr>
              <a:t>V</a:t>
            </a:r>
            <a:r>
              <a:rPr b="1" lang="uk-UA" sz="6000" spc="-1" strike="noStrike">
                <a:solidFill>
                  <a:srgbClr val="3333ff"/>
                </a:solidFill>
                <a:latin typeface="Arial"/>
              </a:rPr>
              <a:t>І ст. внаслідок Реформації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Arial Black"/>
              </a:rPr>
              <a:t>Марія   Тюдо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714560" y="1142640"/>
            <a:ext cx="41432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Королева Англії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1553</a:t>
            </a: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 — </a:t>
            </a:r>
            <a:r>
              <a:rPr b="0" lang="ru-RU" sz="4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1558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завзята католичка,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ff"/>
                </a:solidFill>
                <a:latin typeface="Arial"/>
                <a:ea typeface="Arial"/>
              </a:rPr>
              <a:t>прозвана Кривавою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395280" y="765000"/>
            <a:ext cx="4314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ta</cp:lastModifiedBy>
  <dcterms:modified xsi:type="dcterms:W3CDTF">2013-05-23T17:50:40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e000000000001024140</vt:lpwstr>
  </property>
  <property fmtid="{D5CDD505-2E9C-101B-9397-08002B2CF9AE}" pid="3" name="PPT_Export_sFileName">
    <vt:lpwstr>D:\Всемирная история\Уроки Всемирной истории\Урок 11 Англия\Урок 11 Англия\P-Урок 11 Англия.Ppt</vt:lpwstr>
  </property>
</Properties>
</file>