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85E-621B-4CA5-9474-D50CAEC5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19B-6179-403D-BE1E-1871D6C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4DB-45CE-4053-A541-7F8EE210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228-4F6A-44A4-95B6-F3E9D3F0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6C1F-1FDD-4E16-A86B-7D857D06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708-03A3-4A8E-8098-69AAA8B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4B8E-5DAE-47BB-BFCB-DB2D954F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29C1-75A7-421A-84D8-5312FB68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C5A-B23D-4015-8203-95CF09EA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2DD5-95EE-4AF7-A55B-46E07E4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4115-47FC-4D93-85E4-27178A7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359-9182-4451-B47A-0A3884A3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4145-1390-48FD-8011-2ED384F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FC6E-449F-40A2-87DC-BB369456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F400-F847-401A-89A4-5B1ECC2E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F278-AC6A-4A68-87C1-D9C5A4BD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1984-08A9-49BA-8B0B-DE6D1223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F0B-C9C3-458E-9901-6022782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96C-05E8-4EF8-B00B-621AC104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998-03AF-416E-A163-FC11A0F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581-C50B-4924-9657-FAA47C0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9FF-E538-4494-942D-EB1101BB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521-0E35-4798-A713-8F3FDA9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DB0-B928-4C3B-B47F-450B0DA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27DF-881B-42B2-B0D5-74A5879B6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03D0-E032-4A37-A04C-D030BBFAD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500" spc="-1" strike="noStrike">
                <a:solidFill>
                  <a:srgbClr val="e5ffff"/>
                </a:solidFill>
                <a:latin typeface="Tahoma"/>
              </a:rPr>
              <a:t>ПРОЕКТ</a:t>
            </a:r>
            <a:endParaRPr b="0" lang="en-US" sz="8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2924280"/>
            <a:ext cx="896472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4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Королівство кривих дзеркал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5ffff"/>
                </a:solidFill>
                <a:latin typeface="Tahoma"/>
              </a:rPr>
              <a:t>ГРУПИ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773360"/>
            <a:ext cx="3024000" cy="1225440"/>
          </a:xfrm>
          <a:prstGeom prst="rect">
            <a:avLst/>
          </a:prstGeom>
          <a:gradFill rotWithShape="0">
            <a:gsLst>
              <a:gs pos="0">
                <a:srgbClr val="e5ffff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ahoma"/>
              </a:rPr>
              <a:t>Науковц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1844640"/>
            <a:ext cx="3095640" cy="12240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ahoma"/>
              </a:rPr>
              <a:t>Еко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4437000"/>
            <a:ext cx="2879640" cy="1224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Tahoma"/>
              </a:rPr>
              <a:t>Психо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2944200">
            <a:off x="1548000" y="1340640"/>
            <a:ext cx="287280" cy="1152360"/>
          </a:xfrm>
          <a:prstGeom prst="downArrow">
            <a:avLst>
              <a:gd name="adj1" fmla="val 0"/>
              <a:gd name="adj2" fmla="val 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21000"/>
            <a:ext cx="208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6280"/>
            <a:ext cx="244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2484360"/>
                <a:gridCol w="2219400"/>
                <a:gridCol w="2100240"/>
                <a:gridCol w="2338560"/>
              </a:tblGrid>
              <a:tr h="17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Завдан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НАУКОВЦ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ЕКО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СИХО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Зібрати інформацію про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Пріоритет техногенної цивілізації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Небезпечний вплив НТР на життя плане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енденцію автономізації людини в суспільств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72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роаналізув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Життєву необхідність наукових відкритті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Глобальні проблеми екології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озвиток психологічного стану сучасної людин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7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резентува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Відеоролик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Відеороли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Відеороли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9304200" y="12430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800" spc="-1" strike="noStrike">
                <a:solidFill>
                  <a:srgbClr val="ff3300"/>
                </a:solidFill>
                <a:latin typeface="Tahoma"/>
              </a:rPr>
              <a:t>Задачі</a:t>
            </a:r>
            <a:r>
              <a:rPr b="0" lang="uk-UA" sz="4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організувати пошук інформації в глобальній мережі 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Internet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забезпечити можливість практичного виконання презентації на комп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’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ютерах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сприяти становленню і розвитку соціально адаптованих учні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створити відео – журнал 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Королівство кривих дзеркал</a:t>
            </a:r>
            <a:r>
              <a:rPr b="0" lang="en-US" sz="3000" spc="-1" strike="noStrike">
                <a:solidFill>
                  <a:srgbClr val="ffff66"/>
                </a:solidFill>
                <a:latin typeface="Tahoma"/>
              </a:rPr>
              <a:t>”</a:t>
            </a:r>
            <a:r>
              <a:rPr b="0" lang="uk-UA" sz="3000" spc="-1" strike="noStrike">
                <a:solidFill>
                  <a:srgbClr val="ffff66"/>
                </a:solidFill>
                <a:latin typeface="Tahoma"/>
              </a:rPr>
              <a:t> , як підсумок творчої роботи учні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cc3300"/>
                </a:solidFill>
                <a:latin typeface="Tahoma"/>
              </a:rPr>
              <a:t>Відео - журнал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3166920"/>
            <a:ext cx="8280360" cy="278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00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00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ролівство кривих дзеркал”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f5f5f"/>
                  </a:gs>
                  <a:gs pos="100000">
                    <a:srgbClr val="000099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Керівники проекту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рченко-Тихонова М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пурнов В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часники проект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чні групи № 23 (спеціальніст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онтажник санітарно-технічних систем та устаткування; електрозварник ручного зварювання; газозварник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чні групи № 26 (спеціальніст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шиніст крана автомобільног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561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00ff"/>
                </a:solidFill>
                <a:latin typeface="Tahoma"/>
              </a:rPr>
              <a:t>Мета:</a:t>
            </a: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формувати в учнів уявлення про розмаїття і цілісність сучасного світу, сучасної цивілізації, використовуючи презентації проекту у позакласних заходах;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виявити причини зростання тенденції до автономізації особи у суспільстві, її психологічного стану;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простежити внутрішню суперечливість головних цивілізаційних процесів;</a:t>
            </a:r>
            <a:br>
              <a:rPr sz="3000"/>
            </a:b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- вдосконалити навички користування комп</a:t>
            </a:r>
            <a:r>
              <a:rPr b="0" lang="en-US" sz="3000" spc="-1" strike="noStrike">
                <a:solidFill>
                  <a:srgbClr val="ff00ff"/>
                </a:solidFill>
                <a:latin typeface="Tahoma"/>
              </a:rPr>
              <a:t>’</a:t>
            </a: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ютерною програмою </a:t>
            </a:r>
            <a:r>
              <a:rPr b="0" lang="en-US" sz="3000" spc="-1" strike="noStrike">
                <a:solidFill>
                  <a:srgbClr val="ff00ff"/>
                </a:solidFill>
                <a:latin typeface="Tahoma"/>
              </a:rPr>
              <a:t>Microsoft Office Publisher</a:t>
            </a:r>
            <a:r>
              <a:rPr b="0" lang="uk-UA" sz="3000" spc="-1" strike="noStrike">
                <a:solidFill>
                  <a:srgbClr val="ff00ff"/>
                </a:solidFill>
                <a:latin typeface="Tahoma"/>
              </a:rPr>
              <a:t>.</a:t>
            </a:r>
            <a:br>
              <a:rPr sz="2700"/>
            </a:b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ahoma"/>
              </a:rPr>
              <a:t>Актуальність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Сучасність відзначається бурхливим розвитком науки і техніки. Людство почало використовувати атомну енергію, освоювати всесвіт, для цього важливим є оперативне отримання необхідної інформації, її гуманне використан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Одночасно непокоїть головне питан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“ </a:t>
            </a:r>
            <a:r>
              <a:rPr b="0" lang="uk-UA" sz="3200" spc="-1" strike="noStrike">
                <a:solidFill>
                  <a:srgbClr val="333333"/>
                </a:solidFill>
                <a:latin typeface="Tahoma"/>
              </a:rPr>
              <a:t>Що чекає цивілізацію: Апокаліпсис чи Процвітання ?“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Очікувані результати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Наприкінці проекту учні набуваю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навичо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аналізувати внутрішню суперечливість головних цивілізаційних процесів, їх негативний та позитивний вплив на люд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формувати власне бачення проблеми (Україна і сучасна цивілізаці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використовувати різні типи об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єктів (текстових, графічних, числових, звукових, відео) для створення фільмі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колективної роботи, ораторського мистец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системного підходу до розв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333333"/>
                </a:solidFill>
                <a:latin typeface="Tahoma"/>
              </a:rPr>
              <a:t>язання поставленого завдан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4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Етап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3240000" cy="11509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. Підготов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2060640"/>
            <a:ext cx="3457440" cy="1079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І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Пошук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357720"/>
            <a:ext cx="388908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ІІ. Практично-виконавчий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3059280" cy="107964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І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V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  <a:ea typeface="Tahoma"/>
              </a:rPr>
              <a:t>. Філь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ahoma"/>
              </a:rPr>
              <a:t>І Підготовч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Учні об</a:t>
            </a:r>
            <a:r>
              <a:rPr b="1" lang="en-US" sz="30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єднуються в груп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Розподіляють обов</a:t>
            </a:r>
            <a:r>
              <a:rPr b="1" lang="en-US" sz="30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язк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Визначаються джерела і засоби збору     інформації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3300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uk-UA" sz="3000" spc="-1" strike="noStrike">
                <a:solidFill>
                  <a:srgbClr val="ff0066"/>
                </a:solidFill>
                <a:latin typeface="Tahoma"/>
              </a:rPr>
              <a:t>Обирається форма представлення результаті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500" spc="-1" strike="noStrike">
                <a:solidFill>
                  <a:srgbClr val="ffff00"/>
                </a:solidFill>
                <a:latin typeface="Tahoma"/>
              </a:rPr>
              <a:t>ІІ ПОШУКОВИЙ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бір інформації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бота в глобальній мережі Інтер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бота з літературо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собисті спостереженн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11111"/>
                </a:solidFill>
                <a:latin typeface="Tahoma"/>
              </a:rPr>
              <a:t>ІІІ ПРАКТИЧНО-ВИКОНАВЧ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Аналіз зібраної інформаці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Формування висновк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Створення презентації на уроці інфор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Tahoma"/>
              </a:rPr>
              <a:t>Створення тематичних буклет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66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11111"/>
                </a:solidFill>
                <a:latin typeface="Tahoma"/>
              </a:rPr>
              <a:t>І</a:t>
            </a:r>
            <a:r>
              <a:rPr b="0" lang="en-US" sz="4400" spc="-1" strike="noStrike">
                <a:solidFill>
                  <a:srgbClr val="111111"/>
                </a:solidFill>
                <a:latin typeface="Tahoma"/>
                <a:ea typeface="Tahoma"/>
              </a:rPr>
              <a:t>V</a:t>
            </a:r>
            <a:r>
              <a:rPr b="0" lang="uk-UA" sz="4400" spc="-1" strike="noStrike">
                <a:solidFill>
                  <a:srgbClr val="111111"/>
                </a:solidFill>
                <a:latin typeface="Tahoma"/>
                <a:ea typeface="Tahoma"/>
              </a:rPr>
              <a:t> ПРЕЗЕНТАЦІ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4d4d4d"/>
                </a:solidFill>
                <a:latin typeface="Tahoma"/>
              </a:rPr>
              <a:t>Презентація та захист проекту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d4d4d"/>
                </a:solidFill>
                <a:latin typeface="Tahoma"/>
              </a:rPr>
              <a:t>Розповсюдження тематичного буклет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3:18:17Z</dcterms:created>
  <dc:creator>FuckYouBill</dc:creator>
  <dc:description/>
  <dc:language>en-US</dc:language>
  <cp:lastModifiedBy>FuckYouBill</cp:lastModifiedBy>
  <dcterms:modified xsi:type="dcterms:W3CDTF">2009-11-24T07:54:36Z</dcterms:modified>
  <cp:revision>8</cp:revision>
  <dc:subject/>
  <dc:title>ПРОЕКТ</dc:title>
</cp:coreProperties>
</file>