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0B0-A1F4-46E0-95FE-C495C433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0A6-5D46-4F52-81E1-CCE489E9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EEB-048B-465F-8EB7-8AB843E2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03A4-8814-484D-9096-719B478E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74E5-1825-42BC-904B-41047C21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35C8-6B4D-4346-81DB-314CEA92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98E9-8667-418D-94D9-40C302EF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6ADF-9DA3-4993-BF4C-FB8DE034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9CAA-A0C1-4103-999C-EFEB02DD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DB55-2B58-4C14-8635-F2FF8466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4D09-4F0B-4E39-9A8A-43CBBBCC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7C03-9B22-4E68-A802-367B10D1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9B56-A6D8-4D0F-BB6D-4545BF1B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1DCB-4AC1-410A-87AC-925B8355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826D-20FE-491E-9A4A-83A77F0D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FB0C-7983-44C7-BF0E-14D80282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142E-1FBC-4AB4-8BA1-EDAD676F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EA8F-EE7E-4DBC-98BF-0AC19ED2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971-C925-4594-8A8B-96276B6B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D46-0B56-47FE-801C-5FD72890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A34-A989-474B-8350-1777E11C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7EE-B994-49A3-B883-5CCE4BB0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DBA-F952-4A10-9806-179E211A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7464-B20B-48CD-B62A-C5E6A9CA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62DE-4111-4928-ACB4-AD8DDEB2B4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152B-F72F-4313-A1D0-832E04AA9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500" spc="-1" strike="noStrike">
                <a:solidFill>
                  <a:srgbClr val="e5ffff"/>
                </a:solidFill>
                <a:latin typeface="Tahoma"/>
              </a:rPr>
              <a:t>ПРОЕКТ</a:t>
            </a:r>
            <a:endParaRPr b="0" lang="en-US" sz="8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9280" y="2924280"/>
            <a:ext cx="8964720" cy="338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4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Королівство кривих дзеркал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e5ffff"/>
                </a:solidFill>
                <a:latin typeface="Tahoma"/>
              </a:rPr>
              <a:t>ГРУПИ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773360"/>
            <a:ext cx="3024000" cy="1225440"/>
          </a:xfrm>
          <a:prstGeom prst="rect">
            <a:avLst/>
          </a:prstGeom>
          <a:gradFill rotWithShape="0">
            <a:gsLst>
              <a:gs pos="0">
                <a:srgbClr val="e5ffff"/>
              </a:gs>
              <a:gs pos="100000">
                <a:srgbClr val="66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ahoma"/>
              </a:rPr>
              <a:t>Науковц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1844640"/>
            <a:ext cx="3095640" cy="122400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ahoma"/>
              </a:rPr>
              <a:t>Еколо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87640" y="4437000"/>
            <a:ext cx="2879640" cy="1224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00"/>
                </a:solidFill>
                <a:latin typeface="Tahoma"/>
              </a:rPr>
              <a:t>Психоло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rot="2944200">
            <a:off x="1548000" y="1340640"/>
            <a:ext cx="287280" cy="1152360"/>
          </a:xfrm>
          <a:prstGeom prst="downArrow">
            <a:avLst>
              <a:gd name="adj1" fmla="val 0"/>
              <a:gd name="adj2" fmla="val 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421000"/>
            <a:ext cx="2087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476280"/>
            <a:ext cx="2448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drawingml/2006/table">
            <a:tbl>
              <a:tblPr/>
              <a:tblGrid>
                <a:gridCol w="2484360"/>
                <a:gridCol w="2219400"/>
                <a:gridCol w="2100240"/>
                <a:gridCol w="2338560"/>
              </a:tblGrid>
              <a:tr h="17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Завданн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НАУКОВЦ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ЕКОЛОГ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ПСИХОЛОГ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  <a:tr h="16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Зібрати інформацію про: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Пріоритет техногенної цивілізації</a:t>
                      </a: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Небезпечний вплив НТР на життя плане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енденцію автономізації людини в суспільств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  <a:tr h="172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Проаналізув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Життєву необхідність наукових відкритті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Глобальні проблеми екології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озвиток психологічного стану сучасної людин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  <a:tr h="17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Презентува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Відеоролик</a:t>
                      </a: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Відеороли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Відеороли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9304200" y="12430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800" spc="-1" strike="noStrike">
                <a:solidFill>
                  <a:srgbClr val="ff3300"/>
                </a:solidFill>
                <a:latin typeface="Tahoma"/>
              </a:rPr>
              <a:t>Задачі</a:t>
            </a:r>
            <a:r>
              <a:rPr b="0" lang="uk-UA" sz="4400" spc="-1" strike="noStrike">
                <a:solidFill>
                  <a:srgbClr val="ff33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300"/>
              </a:buClr>
              <a:buSzPct val="65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організувати пошук інформації в глобальній мережі </a:t>
            </a:r>
            <a:r>
              <a:rPr b="0" lang="en-US" sz="3000" spc="-1" strike="noStrike">
                <a:solidFill>
                  <a:srgbClr val="ffff66"/>
                </a:solidFill>
                <a:latin typeface="Tahoma"/>
              </a:rPr>
              <a:t>Internet</a:t>
            </a: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3300"/>
              </a:buClr>
              <a:buSzPct val="65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забезпечити можливість практичного виконання презентації на комп</a:t>
            </a:r>
            <a:r>
              <a:rPr b="0" lang="en-US" sz="3000" spc="-1" strike="noStrike">
                <a:solidFill>
                  <a:srgbClr val="ffff66"/>
                </a:solidFill>
                <a:latin typeface="Tahoma"/>
              </a:rPr>
              <a:t>’</a:t>
            </a: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ютерах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3300"/>
              </a:buClr>
              <a:buSzPct val="65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сприяти становленню і розвитку соціально адаптованих учні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3300"/>
              </a:buClr>
              <a:buSzPct val="65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створити відео – журнал </a:t>
            </a:r>
            <a:r>
              <a:rPr b="0" lang="en-US" sz="3000" spc="-1" strike="noStrike">
                <a:solidFill>
                  <a:srgbClr val="ffff66"/>
                </a:solidFill>
                <a:latin typeface="Tahoma"/>
              </a:rPr>
              <a:t>“</a:t>
            </a: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Королівство кривих дзеркал</a:t>
            </a:r>
            <a:r>
              <a:rPr b="0" lang="en-US" sz="3000" spc="-1" strike="noStrike">
                <a:solidFill>
                  <a:srgbClr val="ffff66"/>
                </a:solidFill>
                <a:latin typeface="Tahoma"/>
              </a:rPr>
              <a:t>”</a:t>
            </a: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 , як підсумок творчої роботи учнів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500" spc="-1" strike="noStrike">
                <a:solidFill>
                  <a:srgbClr val="cc3300"/>
                </a:solidFill>
                <a:latin typeface="Tahoma"/>
              </a:rPr>
              <a:t>Відео - журнал</a:t>
            </a: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3166920"/>
            <a:ext cx="8280360" cy="278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000099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“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000099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ролівство кривих дзеркал”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f5f5f"/>
                  </a:gs>
                  <a:gs pos="100000">
                    <a:srgbClr val="000099"/>
                  </a:gs>
                </a:gsLst>
                <a:lin ang="135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Керівники проекту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арченко-Тихонова М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Чепурнов В.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часники проект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чні групи № 23 (спеціальність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онтажник санітарно-технічних систем та устаткування; електрозварник ручного зварювання; газозварник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чні групи № 26 (спеціальність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ашиніст крана автомобільного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561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00ff"/>
                </a:solidFill>
                <a:latin typeface="Tahoma"/>
              </a:rPr>
              <a:t>Мета:</a:t>
            </a:r>
            <a:r>
              <a:rPr b="0" lang="uk-UA" sz="3000" spc="-1" strike="noStrike">
                <a:solidFill>
                  <a:srgbClr val="ff00ff"/>
                </a:solidFill>
                <a:latin typeface="Tahoma"/>
              </a:rPr>
              <a:t> </a:t>
            </a:r>
            <a:br>
              <a:rPr sz="3000"/>
            </a:br>
            <a:r>
              <a:rPr b="0" lang="uk-UA" sz="3000" spc="-1" strike="noStrike">
                <a:solidFill>
                  <a:srgbClr val="ff00ff"/>
                </a:solidFill>
                <a:latin typeface="Tahoma"/>
              </a:rPr>
              <a:t>- формувати в учнів уявлення про розмаїття і цілісність сучасного світу, сучасної цивілізації, використовуючи презентації проекту у позакласних заходах;</a:t>
            </a:r>
            <a:br>
              <a:rPr sz="3000"/>
            </a:br>
            <a:r>
              <a:rPr b="0" lang="uk-UA" sz="3000" spc="-1" strike="noStrike">
                <a:solidFill>
                  <a:srgbClr val="ff00ff"/>
                </a:solidFill>
                <a:latin typeface="Tahoma"/>
              </a:rPr>
              <a:t>- виявити причини зростання тенденції до автономізації особи у суспільстві, її психологічного стану;</a:t>
            </a:r>
            <a:br>
              <a:rPr sz="3000"/>
            </a:br>
            <a:r>
              <a:rPr b="0" lang="uk-UA" sz="3000" spc="-1" strike="noStrike">
                <a:solidFill>
                  <a:srgbClr val="ff00ff"/>
                </a:solidFill>
                <a:latin typeface="Tahoma"/>
              </a:rPr>
              <a:t>- простежити внутрішню суперечливість головних цивілізаційних процесів;</a:t>
            </a:r>
            <a:br>
              <a:rPr sz="3000"/>
            </a:br>
            <a:r>
              <a:rPr b="0" lang="uk-UA" sz="3000" spc="-1" strike="noStrike">
                <a:solidFill>
                  <a:srgbClr val="ff00ff"/>
                </a:solidFill>
                <a:latin typeface="Tahoma"/>
              </a:rPr>
              <a:t>- вдосконалити навички користування комп</a:t>
            </a:r>
            <a:r>
              <a:rPr b="0" lang="en-US" sz="3000" spc="-1" strike="noStrike">
                <a:solidFill>
                  <a:srgbClr val="ff00ff"/>
                </a:solidFill>
                <a:latin typeface="Tahoma"/>
              </a:rPr>
              <a:t>’</a:t>
            </a:r>
            <a:r>
              <a:rPr b="0" lang="uk-UA" sz="3000" spc="-1" strike="noStrike">
                <a:solidFill>
                  <a:srgbClr val="ff00ff"/>
                </a:solidFill>
                <a:latin typeface="Tahoma"/>
              </a:rPr>
              <a:t>ютерною програмою </a:t>
            </a:r>
            <a:r>
              <a:rPr b="0" lang="en-US" sz="3000" spc="-1" strike="noStrike">
                <a:solidFill>
                  <a:srgbClr val="ff00ff"/>
                </a:solidFill>
                <a:latin typeface="Tahoma"/>
              </a:rPr>
              <a:t>Microsoft Office Publisher</a:t>
            </a:r>
            <a:r>
              <a:rPr b="0" lang="uk-UA" sz="3000" spc="-1" strike="noStrike">
                <a:solidFill>
                  <a:srgbClr val="ff00ff"/>
                </a:solidFill>
                <a:latin typeface="Tahoma"/>
              </a:rPr>
              <a:t>.</a:t>
            </a:r>
            <a:br>
              <a:rPr sz="2700"/>
            </a:b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33"/>
                </a:solidFill>
                <a:latin typeface="Tahoma"/>
              </a:rPr>
              <a:t>Актуальність</a:t>
            </a: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075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ahoma"/>
              </a:rPr>
              <a:t>Сучасність відзначається бурхливим розвитком науки і техніки. Людство почало використовувати атомну енергію, освоювати всесвіт, для цього важливим є оперативне отримання необхідної інформації, її гуманне використанн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ahoma"/>
              </a:rPr>
              <a:t>Одночасно непокоїть головне питанн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ahoma"/>
              </a:rPr>
              <a:t>“ </a:t>
            </a:r>
            <a:r>
              <a:rPr b="0" lang="uk-UA" sz="3200" spc="-1" strike="noStrike">
                <a:solidFill>
                  <a:srgbClr val="333333"/>
                </a:solidFill>
                <a:latin typeface="Tahoma"/>
              </a:rPr>
              <a:t>Що чекає цивілізацію: Апокаліпсис чи Процвітання ?“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ahoma"/>
              </a:rPr>
              <a:t>Очікувані результати</a:t>
            </a: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Наприкінці проекту учні набуваю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навичо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аналізувати внутрішню суперечливість головних цивілізаційних процесів, їх негативний та позитивний вплив на люд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формувати власне бачення проблеми (Україна і сучасна цивілізаці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використовувати різні типи об</a:t>
            </a: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єктів (текстових, графічних, числових, звукових, відео) для створення фільмі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колективної роботи, ораторського мистец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системного підходу до розв</a:t>
            </a: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язання поставленого завданн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4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Етап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20640"/>
            <a:ext cx="3240000" cy="11509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ahoma"/>
              </a:rPr>
              <a:t>І. Підготовч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2060640"/>
            <a:ext cx="3457440" cy="10792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ahoma"/>
              </a:rPr>
              <a:t>ІІ.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3300"/>
                </a:solidFill>
                <a:latin typeface="Tahoma"/>
              </a:rPr>
              <a:t>Пошук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3357720"/>
            <a:ext cx="3889080" cy="129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ahoma"/>
              </a:rPr>
              <a:t>ІІІ. Практично-виконавчий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5013360"/>
            <a:ext cx="3059280" cy="107964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cc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ahoma"/>
              </a:rPr>
              <a:t>І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V</a:t>
            </a:r>
            <a:r>
              <a:rPr b="0" lang="uk-UA" sz="2400" spc="-1" strike="noStrike">
                <a:solidFill>
                  <a:srgbClr val="ff3300"/>
                </a:solidFill>
                <a:latin typeface="Tahoma"/>
                <a:ea typeface="Tahoma"/>
              </a:rPr>
              <a:t>. Філь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Tahoma"/>
              </a:rPr>
              <a:t>І Підготовч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3300"/>
              </a:buClr>
              <a:buSzPct val="6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Учні об</a:t>
            </a:r>
            <a:r>
              <a:rPr b="1" lang="en-US" sz="3000" spc="-1" strike="noStrike">
                <a:solidFill>
                  <a:srgbClr val="ff0066"/>
                </a:solidFill>
                <a:latin typeface="Tahoma"/>
              </a:rPr>
              <a:t>’</a:t>
            </a: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єднуються в груп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3300"/>
              </a:buClr>
              <a:buSzPct val="6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Розподіляють обов</a:t>
            </a:r>
            <a:r>
              <a:rPr b="1" lang="en-US" sz="3000" spc="-1" strike="noStrike">
                <a:solidFill>
                  <a:srgbClr val="ff0066"/>
                </a:solidFill>
                <a:latin typeface="Tahoma"/>
              </a:rPr>
              <a:t>’</a:t>
            </a: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язк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3300"/>
              </a:buClr>
              <a:buSzPct val="6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Визначаються джерела і засоби збору     інформації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3300"/>
              </a:buClr>
              <a:buSzPct val="6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Обирається форма представлення результаті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8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500" spc="-1" strike="noStrike">
                <a:solidFill>
                  <a:srgbClr val="ffff00"/>
                </a:solidFill>
                <a:latin typeface="Tahoma"/>
              </a:rPr>
              <a:t>ІІ ПОШУКОВИЙ</a:t>
            </a:r>
            <a:endParaRPr b="0" lang="en-US" sz="5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бір інформації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Робота в глобальній мережі Інтерн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Робота з літературо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Особисті спостереженн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11111"/>
                </a:solidFill>
                <a:latin typeface="Tahoma"/>
              </a:rPr>
              <a:t>ІІІ ПРАКТИЧНО-ВИКОНАВЧ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Tahoma"/>
              </a:rPr>
              <a:t>Аналіз зібраної інформації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Tahoma"/>
              </a:rPr>
              <a:t>Формування висновкі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Tahoma"/>
              </a:rPr>
              <a:t>Створення презентації на уроці інфор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Tahoma"/>
              </a:rPr>
              <a:t>Створення тематичних буклеті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66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11111"/>
                </a:solidFill>
                <a:latin typeface="Tahoma"/>
              </a:rPr>
              <a:t>І</a:t>
            </a:r>
            <a:r>
              <a:rPr b="0" lang="en-US" sz="4400" spc="-1" strike="noStrike">
                <a:solidFill>
                  <a:srgbClr val="111111"/>
                </a:solidFill>
                <a:latin typeface="Tahoma"/>
                <a:ea typeface="Tahoma"/>
              </a:rPr>
              <a:t>V</a:t>
            </a:r>
            <a:r>
              <a:rPr b="0" lang="uk-UA" sz="4400" spc="-1" strike="noStrike">
                <a:solidFill>
                  <a:srgbClr val="111111"/>
                </a:solidFill>
                <a:latin typeface="Tahoma"/>
                <a:ea typeface="Tahoma"/>
              </a:rPr>
              <a:t> ПРЕЗЕНТАЦІ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5000"/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600" spc="-1" strike="noStrike">
                <a:solidFill>
                  <a:srgbClr val="4d4d4d"/>
                </a:solidFill>
                <a:latin typeface="Tahoma"/>
              </a:rPr>
              <a:t>Презентація та захист проекту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5000"/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d4d4d"/>
                </a:solidFill>
                <a:latin typeface="Tahoma"/>
              </a:rPr>
              <a:t>Розповсюдження тематичного буклет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3:18:17Z</dcterms:created>
  <dc:creator>FuckYouBill</dc:creator>
  <dc:description/>
  <dc:language>en-US</dc:language>
  <cp:lastModifiedBy>FuckYouBill</cp:lastModifiedBy>
  <dcterms:modified xsi:type="dcterms:W3CDTF">2009-11-24T07:54:36Z</dcterms:modified>
  <cp:revision>8</cp:revision>
  <dc:subject/>
  <dc:title>ПРОЕКТ</dc:title>
</cp:coreProperties>
</file>