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3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58.jpeg" ContentType="image/jpeg"/>
  <Override PartName="/ppt/media/image52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2.png" ContentType="image/png"/>
  <Override PartName="/ppt/media/image25.jpeg" ContentType="image/jpeg"/>
  <Override PartName="/ppt/media/image69.png" ContentType="image/png"/>
  <Override PartName="/ppt/media/image24.jpeg" ContentType="image/jpeg"/>
  <Override PartName="/ppt/media/image47.png" ContentType="image/png"/>
  <Override PartName="/ppt/media/image1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72.gif" ContentType="image/gif"/>
  <Override PartName="/ppt/media/image15.jpeg" ContentType="image/jpeg"/>
  <Override PartName="/ppt/media/image70.jpeg" ContentType="image/jpeg"/>
  <Override PartName="/ppt/media/image35.png" ContentType="image/png"/>
  <Override PartName="/ppt/media/image17.jpeg" ContentType="image/jpeg"/>
  <Override PartName="/ppt/media/image63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62.jpeg" ContentType="image/jpeg"/>
  <Override PartName="/ppt/media/image68.jpeg" ContentType="image/jpeg"/>
  <Override PartName="/ppt/media/image19.jpeg" ContentType="image/jpeg"/>
  <Override PartName="/ppt/media/image42.jpeg" ContentType="image/jpeg"/>
  <Override PartName="/ppt/media/image67.png" ContentType="image/png"/>
  <Override PartName="/ppt/media/image60.jpeg" ContentType="image/jpeg"/>
  <Override PartName="/ppt/media/image30.png" ContentType="image/png"/>
  <Override PartName="/ppt/media/image16.jpeg" ContentType="image/jpeg"/>
  <Override PartName="/ppt/media/image49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71.png" ContentType="image/png"/>
  <Override PartName="/ppt/media/image6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31.gif" ContentType="image/gif"/>
  <Override PartName="/ppt/media/image11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57.png" ContentType="image/png"/>
  <Override PartName="/ppt/media/image3.jpeg" ContentType="image/jpeg"/>
  <Override PartName="/ppt/media/image41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B17-D06B-41C9-B92F-CE4A8CB3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D77-0490-47AF-98D4-EB44D5B6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EEA-3570-442B-80E6-87012393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2EC-32CB-4A10-8ADA-BA1E22D2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FF2-BD92-4F33-AD48-510C70C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4F6-9789-4376-B159-F23982D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D18-2E6D-4F3D-B7B3-6E2EEB6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31A-A3E2-46A0-944A-3E33F704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C14-E097-4B27-B69F-CBEF282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0F4-65EC-45BD-A3A6-57E6348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334-CEB7-4E7A-9FBD-15A720C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CC5-8B27-494A-9B35-5AF6EAD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2D70-DF70-4C53-9E1D-F5A3D8F51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ownloads\ГОЛОДОМОР\Фото\golodomo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5151600" y="6480"/>
            <a:ext cx="38163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114480"/>
            <a:ext cx="761832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мерть стукала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жну хат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крегот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наситн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убами, в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сочувала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різь  сті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иліз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-під підл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ід неї бу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можли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ховат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013280" y="17640"/>
            <a:ext cx="51130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к чинився Голодом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268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ильно забирали всі продовольчі припа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268360" y="2108160"/>
            <a:ext cx="4675320" cy="40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915840" y="2103480"/>
            <a:ext cx="7310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джували навіть дітей, які підбирали колоски пшениці на вже зібраних пол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470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32р. – прийнято   Зако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о п'ять колоскі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спільна власність (державна, колгоспна, кооперативна) є основою радянського ладу, вона священна і недоторканна, і людей, які роблять замах на суспільну власність, треба розглядати як ворогів народу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618160" y="4005360"/>
            <a:ext cx="3352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32р. – прийнято   Закон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о п'ять колоскі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428760" y="1557360"/>
            <a:ext cx="770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крадання майна колгоспів карало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стріл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 «пом'якшуючих обставин» — позбавленням волі на строк не менше 10 рок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Законом про п'ять колосків» фактично людям було заборонено володіння їже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665440" y="3068640"/>
            <a:ext cx="3095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кон про 5 колосків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чи так давно це стало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і. Ще досі живі свідки тих час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ownloads\ГОЛОДОМОР\Фото\100220_image_large.jpg"/>
          <p:cNvPicPr/>
          <p:nvPr/>
        </p:nvPicPr>
        <p:blipFill>
          <a:blip r:embed="rId1"/>
          <a:stretch/>
        </p:blipFill>
        <p:spPr>
          <a:xfrm>
            <a:off x="900000" y="1700280"/>
            <a:ext cx="702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відки.wmv" descr=""/>
          <p:cNvPicPr/>
          <p:nvPr/>
        </p:nvPicPr>
        <p:blipFill>
          <a:blip r:embed="rId1"/>
          <a:stretch/>
        </p:blipFill>
        <p:spPr>
          <a:xfrm>
            <a:off x="2373480" y="1773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ідок Голодомору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дія Воронц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024000" cy="1708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3492360" y="130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ганськ – У 1933 році Надії Воронцовій було 10 рок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24000" y="313200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’ятаю, що дочекалися весни. На деревах з’явилося листя. Ми його сушили і товкли у ступі, це було нам за борошно. Разом з лушпинням  картопл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іпили . Ось таким ми і харчувалися. Мій молодший брат ходив ловити ховрашків. Ставив сильця над норками. Ловили і їли. Також їли їжа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чевидиця Голодомор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ранціска Тамагаш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5040" cy="1749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171360" y="2421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ени 1932 року так звана «червона валка» приїхала до нас, і забрала все. Ні горошини, ні квасолини не залишили. Відчуваючи страшну годину лихоліття, мати нас, малечу, заставила в лісі назбирати багато жолудів та насушити картопляного лушпиння. Жолуді насушили, потім мололи, мати змішувала труху з лушпайок та борошно з жолудів, і пекла пляц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дна смерть, напевно, найстрашні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на повільна, довга і тяж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хлива і пекельна, найлютіш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 зводить з розуму й така тривк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ownloads\ГОЛОДОМОР\Фото\51373.jpg"/>
          <p:cNvPicPr/>
          <p:nvPr/>
        </p:nvPicPr>
        <p:blipFill>
          <a:blip r:embed="rId1"/>
          <a:stretch/>
        </p:blipFill>
        <p:spPr>
          <a:xfrm>
            <a:off x="3059280" y="2392200"/>
            <a:ext cx="5574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Users\User\Downloads\ГОЛОДОМОР\Фото\80815.jpg"/>
          <p:cNvPicPr/>
          <p:nvPr/>
        </p:nvPicPr>
        <p:blipFill>
          <a:blip r:embed="rId1"/>
          <a:stretch/>
        </p:blipFill>
        <p:spPr>
          <a:xfrm>
            <a:off x="1116000" y="1182600"/>
            <a:ext cx="6299280" cy="472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00000" y="1152360"/>
            <a:ext cx="7102440" cy="478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ьві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ни минулого року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отували хлібці з каштанів і насіння кропу, жолудів, кори дуба, корж із кропиви, власне ті страви, якими рятувались українці у 1932-1933 роках від гол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ownloads\ГОЛОДОМОР\Фото\Статистика1932-1933_свічка.JPG"/>
          <p:cNvPicPr/>
          <p:nvPr/>
        </p:nvPicPr>
        <p:blipFill>
          <a:blip r:embed="rId1"/>
          <a:stretch/>
        </p:blipFill>
        <p:spPr>
          <a:xfrm>
            <a:off x="-1440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віча Білозір.wmv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856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2600" y="-1440"/>
            <a:ext cx="9169200" cy="687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bereh.net/_ph/45/2/210152013.gif"/>
          <p:cNvPicPr/>
          <p:nvPr/>
        </p:nvPicPr>
        <p:blipFill>
          <a:blip r:embed="rId2"/>
          <a:stretch/>
        </p:blipFill>
        <p:spPr>
          <a:xfrm>
            <a:off x="1692360" y="73080"/>
            <a:ext cx="49370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19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’ятати і знати про жахливу трагедію Голодомору – мало. Її потрібно носити у душі, у серці. Бо ті нещасні люди не вмерли за щось, вони не боролися, і не відстоювали своє право на життя. Їм не дали такої зм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ownloads\ГОЛОДОМОР\Фото\4f88cdfac2_223038.jpg"/>
          <p:cNvPicPr/>
          <p:nvPr/>
        </p:nvPicPr>
        <p:blipFill>
          <a:blip r:embed="rId1"/>
          <a:stretch/>
        </p:blipFill>
        <p:spPr>
          <a:xfrm>
            <a:off x="1835280" y="292428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ї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ищили, вбивали, морили голодом, а ми йшли, спотикались, падали, але вставали, піднімали один одного і ступали далі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ідкорені у 33-му – непереможні сьогодні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User\Downloads\ГОЛОДОМОР\Фото\92fbfc0aa2ab94d7ab9a207532eb11e7.jpg"/>
          <p:cNvPicPr/>
          <p:nvPr/>
        </p:nvPicPr>
        <p:blipFill>
          <a:blip r:embed="rId1"/>
          <a:stretch/>
        </p:blipFill>
        <p:spPr>
          <a:xfrm>
            <a:off x="1476360" y="2421000"/>
            <a:ext cx="63356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User\Downloads\ГОЛОДОМОР\Фото\105597519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2"/>
          <a:stretch/>
        </p:blipFill>
        <p:spPr>
          <a:xfrm>
            <a:off x="-311040" y="2792520"/>
            <a:ext cx="9783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User\Downloads\ГОЛОДОМОР\Фото\Памятники\Меморіал_Жертвам_Голодомору_в_Харкові_фрагмент_1.jpg"/>
          <p:cNvPicPr/>
          <p:nvPr/>
        </p:nvPicPr>
        <p:blipFill>
          <a:blip r:embed="rId1"/>
          <a:stretch/>
        </p:blipFill>
        <p:spPr>
          <a:xfrm>
            <a:off x="0" y="-27000"/>
            <a:ext cx="5184720" cy="69055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2"/>
          <a:stretch/>
        </p:blipFill>
        <p:spPr>
          <a:xfrm>
            <a:off x="6357960" y="-92160"/>
            <a:ext cx="153684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ownloads\ГОЛОДОМОР\Фото\Памятники\Днепропетровск.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4" descr=""/>
          <p:cNvPicPr/>
          <p:nvPr/>
        </p:nvPicPr>
        <p:blipFill>
          <a:blip r:embed="rId2"/>
          <a:stretch/>
        </p:blipFill>
        <p:spPr>
          <a:xfrm>
            <a:off x="-291960" y="4621320"/>
            <a:ext cx="59864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дом вбивали нашу свободу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ідкорені у 33-му – непереможні сьогодні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7752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User\Downloads\ГОЛОДОМОР\Фото\Памятники\Пам'ятник_Жертвам_Голодомору_в_Одесі.jpg"/>
          <p:cNvPicPr/>
          <p:nvPr/>
        </p:nvPicPr>
        <p:blipFill>
          <a:blip r:embed="rId1"/>
          <a:stretch/>
        </p:blipFill>
        <p:spPr>
          <a:xfrm>
            <a:off x="6480" y="0"/>
            <a:ext cx="55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" descr=""/>
          <p:cNvPicPr/>
          <p:nvPr/>
        </p:nvPicPr>
        <p:blipFill>
          <a:blip r:embed="rId2"/>
          <a:stretch/>
        </p:blipFill>
        <p:spPr>
          <a:xfrm>
            <a:off x="6053040" y="231840"/>
            <a:ext cx="1725840" cy="75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User\Downloads\ГОЛОДОМОР\Фото\Памятники\Памятник_в_Запорожье_жертвам_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" descr=""/>
          <p:cNvPicPr/>
          <p:nvPr/>
        </p:nvPicPr>
        <p:blipFill>
          <a:blip r:embed="rId2"/>
          <a:stretch/>
        </p:blipFill>
        <p:spPr>
          <a:xfrm>
            <a:off x="5187960" y="231840"/>
            <a:ext cx="4145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User\Downloads\ГОЛОДОМОР\Фото\Памятники\Пам'ятник_Жертвам_Голодомору_Бровари_56.JPG"/>
          <p:cNvPicPr/>
          <p:nvPr/>
        </p:nvPicPr>
        <p:blipFill>
          <a:blip r:embed="rId1"/>
          <a:stretch/>
        </p:blipFill>
        <p:spPr>
          <a:xfrm>
            <a:off x="144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" descr=""/>
          <p:cNvPicPr/>
          <p:nvPr/>
        </p:nvPicPr>
        <p:blipFill>
          <a:blip r:embed="rId2"/>
          <a:stretch/>
        </p:blipFill>
        <p:spPr>
          <a:xfrm>
            <a:off x="6303960" y="-66600"/>
            <a:ext cx="144468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wnloads\ГОЛОДОМОР\Фото\Памятники\Обухов.jpg"/>
          <p:cNvPicPr/>
          <p:nvPr/>
        </p:nvPicPr>
        <p:blipFill>
          <a:blip r:embed="rId1"/>
          <a:stretch/>
        </p:blipFill>
        <p:spPr>
          <a:xfrm>
            <a:off x="-20520" y="0"/>
            <a:ext cx="9145440" cy="5805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" descr=""/>
          <p:cNvPicPr/>
          <p:nvPr/>
        </p:nvPicPr>
        <p:blipFill>
          <a:blip r:embed="rId2"/>
          <a:stretch/>
        </p:blipFill>
        <p:spPr>
          <a:xfrm>
            <a:off x="2876400" y="5632560"/>
            <a:ext cx="2822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User\Downloads\ГОЛОДОМОР\Фото\Памятники\Пам'ятний_знак_Жертвам_Голодомору_1932-33_рр_у_Сумах.jpg"/>
          <p:cNvPicPr/>
          <p:nvPr/>
        </p:nvPicPr>
        <p:blipFill>
          <a:blip r:embed="rId1"/>
          <a:stretch/>
        </p:blipFill>
        <p:spPr>
          <a:xfrm>
            <a:off x="4680" y="0"/>
            <a:ext cx="51260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" descr=""/>
          <p:cNvPicPr/>
          <p:nvPr/>
        </p:nvPicPr>
        <p:blipFill>
          <a:blip r:embed="rId2"/>
          <a:stretch/>
        </p:blipFill>
        <p:spPr>
          <a:xfrm>
            <a:off x="5815080" y="768240"/>
            <a:ext cx="17622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ser\Downloads\ГОЛОДОМОР\Фото\Памятники\Нежин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" descr=""/>
          <p:cNvPicPr/>
          <p:nvPr/>
        </p:nvPicPr>
        <p:blipFill>
          <a:blip r:embed="rId2"/>
          <a:stretch/>
        </p:blipFill>
        <p:spPr>
          <a:xfrm>
            <a:off x="-212760" y="5486400"/>
            <a:ext cx="2711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ser\Downloads\ГОЛОДОМОР\Фото\Памятники\Вишгород_(Vyshhorod)_-_Пам'ятник_жертвам_Голодомору_1932-1933_років.jpg"/>
          <p:cNvPicPr/>
          <p:nvPr/>
        </p:nvPicPr>
        <p:blipFill>
          <a:blip r:embed="rId1"/>
          <a:stretch/>
        </p:blipFill>
        <p:spPr>
          <a:xfrm>
            <a:off x="0" y="0"/>
            <a:ext cx="5219640" cy="695952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" descr=""/>
          <p:cNvPicPr/>
          <p:nvPr/>
        </p:nvPicPr>
        <p:blipFill>
          <a:blip r:embed="rId2"/>
          <a:stretch/>
        </p:blipFill>
        <p:spPr>
          <a:xfrm>
            <a:off x="6357960" y="341280"/>
            <a:ext cx="12920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User\Downloads\ГОЛОДОМОР\Фото\Памятники\Винница -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" descr=""/>
          <p:cNvPicPr/>
          <p:nvPr/>
        </p:nvPicPr>
        <p:blipFill>
          <a:blip r:embed="rId2"/>
          <a:stretch/>
        </p:blipFill>
        <p:spPr>
          <a:xfrm>
            <a:off x="5999040" y="5200560"/>
            <a:ext cx="3267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ownloads\ГОЛОДОМОР\Фото\Памятники\Літки.jpg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6138720" y="219240"/>
            <a:ext cx="1573200" cy="62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User\Downloads\ГОЛОДОМОР\Фото\Памятники\Киев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6907320" y="5559480"/>
            <a:ext cx="2127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460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ці дні наш народ в Україні та за її межами відзначає сумні роковини – 81річниця Голодомору 1932 – 1933 рр. Сьогоднішній урок присвячуємо пам’яті «безневинних страдників, убієнних голодом», «безбожно похованих, неоспіваних у молитвах, неоплаканих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ownloads\ГОЛОДОМОР\Фото\604718.jpg"/>
          <p:cNvPicPr/>
          <p:nvPr/>
        </p:nvPicPr>
        <p:blipFill>
          <a:blip r:embed="rId1"/>
          <a:stretch/>
        </p:blipFill>
        <p:spPr>
          <a:xfrm>
            <a:off x="2417760" y="40006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User\Downloads\ГОЛОДОМОР\Фото\Памятники\Варшава Польща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" descr=""/>
          <p:cNvPicPr/>
          <p:nvPr/>
        </p:nvPicPr>
        <p:blipFill>
          <a:blip r:embed="rId2"/>
          <a:stretch/>
        </p:blipFill>
        <p:spPr>
          <a:xfrm>
            <a:off x="5218200" y="1871640"/>
            <a:ext cx="3571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User\Downloads\ГОЛОДОМОР\Фото\Памятники\Вінніпег канада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2" descr=""/>
          <p:cNvPicPr/>
          <p:nvPr/>
        </p:nvPicPr>
        <p:blipFill>
          <a:blip r:embed="rId2"/>
          <a:stretch/>
        </p:blipFill>
        <p:spPr>
          <a:xfrm>
            <a:off x="5157720" y="1268280"/>
            <a:ext cx="33638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-9360"/>
            <a:ext cx="5176800" cy="69008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5218200" y="1895400"/>
            <a:ext cx="3828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4863960" y="2060640"/>
            <a:ext cx="32864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" descr=""/>
          <p:cNvPicPr/>
          <p:nvPr/>
        </p:nvPicPr>
        <p:blipFill>
          <a:blip r:embed="rId2"/>
          <a:stretch/>
        </p:blipFill>
        <p:spPr>
          <a:xfrm>
            <a:off x="5595840" y="-96840"/>
            <a:ext cx="3902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" descr=""/>
          <p:cNvPicPr/>
          <p:nvPr/>
        </p:nvPicPr>
        <p:blipFill>
          <a:blip r:embed="rId2"/>
          <a:stretch/>
        </p:blipFill>
        <p:spPr>
          <a:xfrm>
            <a:off x="2481120" y="4846680"/>
            <a:ext cx="419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zolochiv.net/wp-content/uploads/2011/11/svichka-golodomor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олодом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9760" y="1341360"/>
            <a:ext cx="63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о розумію під цим слов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95280" y="2492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і емоції викликає оте, здавалося, просте поєднання літер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407880" y="4200480"/>
            <a:ext cx="83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івчуття чи жаль, скорботу чи страх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340000" y="572436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о таке Голодомор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9000" y="1177920"/>
            <a:ext cx="6799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847120"/>
          </a:xfrm>
          <a:prstGeom prst="rect">
            <a:avLst/>
          </a:prstGeom>
          <a:ln w="0">
            <a:noFill/>
          </a:ln>
        </p:spPr>
      </p:pic>
      <p:sp>
        <p:nvSpPr>
          <p:cNvPr id="56" name="Объект 2"/>
          <p:cNvSpPr/>
          <p:nvPr/>
        </p:nvSpPr>
        <p:spPr>
          <a:xfrm>
            <a:off x="0" y="23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Штучно організований більшовицькою владою голод в Україні та деяких інших регіон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олодом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4784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Виник внаслідок завищених хлібозаготівельних планів і примусового вилучення продовольства у селян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1600" y="-17136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832360" cy="411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1606680" y="2452680"/>
            <a:ext cx="6291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ільки в Україні померло від Голодомору близько 4,5 млн.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29520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ownloads\ГОЛОДОМОР\Фото\graves.jpg"/>
          <p:cNvPicPr/>
          <p:nvPr/>
        </p:nvPicPr>
        <p:blipFill>
          <a:blip r:embed="rId2"/>
          <a:stretch/>
        </p:blipFill>
        <p:spPr>
          <a:xfrm>
            <a:off x="852480" y="2276640"/>
            <a:ext cx="7115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32 рік – нещасна Украї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ття перетворилось в повільну, жахливу смерть під назвою Голодомор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81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9:40:55Z</dcterms:created>
  <dc:creator>User</dc:creator>
  <dc:description/>
  <dc:language>en-US</dc:language>
  <cp:lastModifiedBy>Admin</cp:lastModifiedBy>
  <dcterms:modified xsi:type="dcterms:W3CDTF">2014-11-20T09:21:32Z</dcterms:modified>
  <cp:revision>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35000000000001024140</vt:lpwstr>
  </property>
</Properties>
</file>