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0.wmf" ContentType="image/x-wmf"/>
  <Override PartName="/ppt/media/image33.wmf" ContentType="image/x-wmf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2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D4BE-2241-4E39-96A1-90CB618051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0410-AD57-48A5-9EE1-E37AB359E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3EE9-8E95-4C1F-8715-9ADCAFE35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E3CA-F0FE-473E-B343-998AB1CE1D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5EC-F99D-4F4C-89C2-5A0360B0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7F4-801E-4C88-BB9C-3245CB5C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117-6C6D-4AED-B058-D4A22967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FAF-0603-4CEC-9E83-EF534FAC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849-0696-402B-B88C-CF61F3ED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768-9020-4982-BE0E-37ADFB43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535-B531-46AB-937F-A41B7A35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495-EF8A-4913-8220-FD1EB50F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235-C91E-4EC5-B08E-AD6D1242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1C2-3AB9-42B6-BB4C-58443225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7B4-662F-40D7-B20C-6EC35F4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8EF-4675-4A06-829B-2665DC3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02B1-40CC-4EB8-978B-330AF6881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Математичний конкурс «Шанс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одзаголовок 2" descr=""/>
          <p:cNvPicPr/>
          <p:nvPr/>
        </p:nvPicPr>
        <p:blipFill>
          <a:blip r:embed="rId1"/>
          <a:stretch/>
        </p:blipFill>
        <p:spPr>
          <a:xfrm>
            <a:off x="4419720" y="4432320"/>
            <a:ext cx="4406760" cy="1450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527280" cy="410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1-tub-ua.yandex.net/i?id=2c353091359e75c0347713a5c348414b-53-144&amp;n=21"/>
          <p:cNvPicPr/>
          <p:nvPr/>
        </p:nvPicPr>
        <p:blipFill>
          <a:blip r:embed="rId3"/>
          <a:stretch/>
        </p:blipFill>
        <p:spPr>
          <a:xfrm>
            <a:off x="4427640" y="1773360"/>
            <a:ext cx="4248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ізитна картка кома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404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ивітання команди 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Говорить кожен учасник по одному рядк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Цей конкурс з нетерпінням  доводилось чек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2d050"/>
                </a:solidFill>
                <a:latin typeface="Arial"/>
                <a:ea typeface="Arial"/>
              </a:rPr>
              <a:t>Ми хочемо математику всі зн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Тож будемо веселитися, жартув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І перемогу Вам ми не прагнемо відд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ивітання команди 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Говорить кожен учасник по одному рядк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b4e3"/>
                </a:solidFill>
                <a:latin typeface="Arial"/>
                <a:ea typeface="Arial"/>
              </a:rPr>
              <a:t>Журі перед нами та вчителі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Аж серце холоне, як глянеш ту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  <a:ea typeface="Arial"/>
              </a:rPr>
              <a:t>Суперник прийшов, щоб виграти пле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Ми знаємо, у нас все буде О’к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622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Другий конкурс «Розминк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Объект 2" descr=""/>
          <p:cNvPicPr/>
          <p:nvPr/>
        </p:nvPicPr>
        <p:blipFill>
          <a:blip r:embed="rId1"/>
          <a:stretch/>
        </p:blipFill>
        <p:spPr>
          <a:xfrm>
            <a:off x="244440" y="689040"/>
            <a:ext cx="84488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І. Знайти невідом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оманда 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озв’язання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товпці діаграми відповідають числам 20, 40, 120, 6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Знайдемо їх середнє арифметичне: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ідповідь: 6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92720" y="4797360"/>
            <a:ext cx="2735280" cy="6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46022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І. Знайти невідом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оманда 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озв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’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яз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товпці діаграми відповідають числам  80, 120, 100, 2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Знайдемо їх середнє арифметичне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ідповідь: 80.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191200" y="5416560"/>
            <a:ext cx="280836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69832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ІІІ. Розв’язати задач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2" descr=""/>
          <p:cNvPicPr/>
          <p:nvPr/>
        </p:nvPicPr>
        <p:blipFill>
          <a:blip r:embed="rId1"/>
          <a:stretch/>
        </p:blipFill>
        <p:spPr>
          <a:xfrm>
            <a:off x="244440" y="689040"/>
            <a:ext cx="8655120" cy="547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6438960" y="4149720"/>
            <a:ext cx="2087640" cy="2327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6443640" y="1484280"/>
            <a:ext cx="180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62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Arial"/>
                <a:ea typeface="Arial"/>
              </a:rPr>
              <a:t>Команда 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463680" y="615960"/>
            <a:ext cx="8242200" cy="584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24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Команда </a:t>
            </a:r>
            <a:r>
              <a:rPr b="1" lang="uk-UA" sz="2200" spc="-1" strike="noStrike">
                <a:solidFill>
                  <a:srgbClr val="c00000"/>
                </a:solidFill>
                <a:latin typeface="Arial"/>
                <a:ea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54936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1.Софізм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«Будь – яке число дорівнює нулю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Яке б не було число а, правильна рівніс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(+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і (-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. Тоді (+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(-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, а отже, +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-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, або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+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= 0. Але тод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0 і через те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0. Де помил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uk-UA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ідповідь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: у рівності (+а)</a:t>
            </a:r>
            <a:r>
              <a:rPr b="0" i="1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= (-а)</a:t>
            </a:r>
            <a:r>
              <a:rPr b="0" i="1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у правій частині від’ємне число піднесено до квадрату є додатнім числом, тому а= - а не може бу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2. Обчисл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411280" y="3265560"/>
            <a:ext cx="266544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246240" y="4071960"/>
            <a:ext cx="8785080" cy="50940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3" descr=""/>
          <p:cNvPicPr/>
          <p:nvPr/>
        </p:nvPicPr>
        <p:blipFill>
          <a:blip r:embed="rId3"/>
          <a:stretch/>
        </p:blipFill>
        <p:spPr>
          <a:xfrm>
            <a:off x="317520" y="4516560"/>
            <a:ext cx="2101680" cy="384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0" y="5516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озв’яз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467240" y="83520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4"/>
          <a:stretch/>
        </p:blipFill>
        <p:spPr>
          <a:xfrm>
            <a:off x="1693800" y="5622840"/>
            <a:ext cx="7450200" cy="901800"/>
          </a:xfrm>
          <a:prstGeom prst="rect">
            <a:avLst/>
          </a:prstGeom>
          <a:ln w="0">
            <a:noFill/>
          </a:ln>
        </p:spPr>
      </p:pic>
      <p:pic>
        <p:nvPicPr>
          <p:cNvPr id="111" name="TextBox 11" descr=""/>
          <p:cNvPicPr/>
          <p:nvPr/>
        </p:nvPicPr>
        <p:blipFill>
          <a:blip r:embed="rId5"/>
          <a:stretch/>
        </p:blipFill>
        <p:spPr>
          <a:xfrm>
            <a:off x="171360" y="4889520"/>
            <a:ext cx="5411880" cy="736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2"/>
          <p:cNvSpPr/>
          <p:nvPr/>
        </p:nvSpPr>
        <p:spPr>
          <a:xfrm>
            <a:off x="255600" y="5013360"/>
            <a:ext cx="28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  <a:ea typeface="Arial"/>
              </a:rPr>
              <a:t>3.Скоротити дрі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Конкурс «Геометрични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Команда Х: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1.Як знайти на шосе місце для станції техобслуговування, щоб відстань від двох населених пунктів була однаков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Arial"/>
                <a:ea typeface="Arial"/>
              </a:rPr>
              <a:t>Відповідь. </a:t>
            </a:r>
            <a:r>
              <a:rPr b="1" lang="en-US" sz="2000" spc="-1" strike="noStrike">
                <a:solidFill>
                  <a:srgbClr val="4f81bd"/>
                </a:solidFill>
                <a:latin typeface="Arial"/>
                <a:ea typeface="Arial"/>
              </a:rPr>
              <a:t>KF-</a:t>
            </a:r>
            <a:r>
              <a:rPr b="1" lang="ru-RU" sz="2000" spc="-1" strike="noStrike">
                <a:solidFill>
                  <a:srgbClr val="4f81bd"/>
                </a:solidFill>
                <a:latin typeface="Arial"/>
                <a:ea typeface="Arial"/>
              </a:rPr>
              <a:t>серединний перпендикуляр.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2. Як поділити рівносторонній трикутник на три частини так, щоб з них можна було скласти два рівних між собою ромби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Arial"/>
                <a:ea typeface="Arial"/>
              </a:rPr>
              <a:t>Відповідь: провести дві середні лін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0320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2600"/>
            <a:ext cx="83628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Команда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333360"/>
            <a:ext cx="8362800" cy="638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Дві магістралі перетинаються під прямим кутом, всередині якого тече річка. Де побудувати міст через річку, щоб відстані від нього до обох магістралей були однаков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211640" cy="21844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4500720" y="1700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Відповідь:на бісектрисі прямого ку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24000" y="3860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2.У трапеції один із кутів відірваний. Як визначити величину її сторі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8"/>
          <p:cNvSpPr/>
          <p:nvPr/>
        </p:nvSpPr>
        <p:spPr>
          <a:xfrm>
            <a:off x="4114800" y="29750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072"/>
          <p:cNvSpPr/>
          <p:nvPr/>
        </p:nvSpPr>
        <p:spPr>
          <a:xfrm>
            <a:off x="4114800" y="4599000"/>
            <a:ext cx="420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озв’язанн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Провести СЕ паралельно АD, тоді АD=СЕ, СD=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Группа 4"/>
          <p:cNvGrpSpPr/>
          <p:nvPr/>
        </p:nvGrpSpPr>
        <p:grpSpPr>
          <a:xfrm>
            <a:off x="331920" y="4427640"/>
            <a:ext cx="3967200" cy="2418120"/>
            <a:chOff x="331920" y="4427640"/>
            <a:chExt cx="3967200" cy="2418120"/>
          </a:xfrm>
        </p:grpSpPr>
        <p:grpSp>
          <p:nvGrpSpPr>
            <p:cNvPr id="124" name="Группа 24"/>
            <p:cNvGrpSpPr/>
            <p:nvPr/>
          </p:nvGrpSpPr>
          <p:grpSpPr>
            <a:xfrm>
              <a:off x="331920" y="4427640"/>
              <a:ext cx="3889080" cy="2418120"/>
              <a:chOff x="331920" y="4427640"/>
              <a:chExt cx="3889080" cy="2418120"/>
            </a:xfrm>
          </p:grpSpPr>
          <p:pic>
            <p:nvPicPr>
              <p:cNvPr id="125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633960" y="4672800"/>
                <a:ext cx="3222000" cy="18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Box 17"/>
              <p:cNvSpPr/>
              <p:nvPr/>
            </p:nvSpPr>
            <p:spPr>
              <a:xfrm>
                <a:off x="345960" y="64774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TextBox 22"/>
              <p:cNvSpPr/>
              <p:nvPr/>
            </p:nvSpPr>
            <p:spPr>
              <a:xfrm>
                <a:off x="2218320" y="64774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TextBox 46"/>
              <p:cNvSpPr/>
              <p:nvPr/>
            </p:nvSpPr>
            <p:spPr>
              <a:xfrm>
                <a:off x="1006920" y="4427640"/>
                <a:ext cx="54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TextBox 50"/>
              <p:cNvSpPr/>
              <p:nvPr/>
            </p:nvSpPr>
            <p:spPr>
              <a:xfrm>
                <a:off x="331920" y="64774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TextBox 51"/>
              <p:cNvSpPr/>
              <p:nvPr/>
            </p:nvSpPr>
            <p:spPr>
              <a:xfrm>
                <a:off x="2204280" y="64774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TextBox 54"/>
              <p:cNvSpPr/>
              <p:nvPr/>
            </p:nvSpPr>
            <p:spPr>
              <a:xfrm>
                <a:off x="3593880" y="6023880"/>
                <a:ext cx="6271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" name="TextBox 3"/>
            <p:cNvSpPr/>
            <p:nvPr/>
          </p:nvSpPr>
          <p:spPr>
            <a:xfrm>
              <a:off x="3907440" y="623664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9"/>
          <p:cNvSpPr/>
          <p:nvPr/>
        </p:nvSpPr>
        <p:spPr>
          <a:xfrm>
            <a:off x="2987640" y="4427640"/>
            <a:ext cx="8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Запитання для вболівальник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Объект 2" descr=""/>
          <p:cNvPicPr/>
          <p:nvPr/>
        </p:nvPicPr>
        <p:blipFill>
          <a:blip r:embed="rId1"/>
          <a:stretch/>
        </p:blipFill>
        <p:spPr>
          <a:xfrm>
            <a:off x="463680" y="1047600"/>
            <a:ext cx="84423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Епігра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«Предмет математики настільки серйозний, що не варто пропускати нагоди зробити його трохи цікавішим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Геніальний французький вчений Блез Паска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968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Запитання для вболівальників (про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Объект 2" descr=""/>
          <p:cNvPicPr/>
          <p:nvPr/>
        </p:nvPicPr>
        <p:blipFill>
          <a:blip r:embed="rId1"/>
          <a:stretch/>
        </p:blipFill>
        <p:spPr>
          <a:xfrm>
            <a:off x="103320" y="615960"/>
            <a:ext cx="88693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64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курс «Рівняйся на лідер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Объект 2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879624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Конкурс «Лірик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54900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  <a:ea typeface="Arial"/>
              </a:rPr>
              <a:t>Команда 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уди не глянь – кругом во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та наука чарі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саду,  в гаю і в кожнім дом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Царюють ті її зако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 в фізиці вона існує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 в дослідах вона мудру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расу її розкрити зможе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Лірично записати може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рокуємо із нею ми щод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Не розлучаємось ні д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C:\Users\ил\Desktop\Математичні картинки\13000_html_m130041fa.png"/>
          <p:cNvPicPr/>
          <p:nvPr/>
        </p:nvPicPr>
        <p:blipFill>
          <a:blip r:embed="rId1"/>
          <a:stretch/>
        </p:blipFill>
        <p:spPr>
          <a:xfrm>
            <a:off x="4859280" y="4365720"/>
            <a:ext cx="41054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05ec0"/>
                </a:solidFill>
                <a:latin typeface="Arial"/>
                <a:ea typeface="Arial"/>
              </a:rPr>
              <a:t>Команда 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764640"/>
            <a:ext cx="86421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 цей безмежний невідомий сві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Так важко все у ньому осягн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оли здається легко – важко вс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 важко – можеш все у мить ти розв’яз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Багато є шляхів для подол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Тієї невідомої безмежно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Ти вдумайся, помисли трохи, постражда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 потім полюби її всім серц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Бо в цьому світі є і я, і 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 математика є і в мені, і у тобі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она існує в кожному куточку цього світ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природі, в побуті, усю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Ти мрій про не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Нехай у сні тобі являють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івняння, куби, ігреки, квадр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І ти побачиш,  як усі проблем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Життєві труднощі, незго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Усім разом так легко подол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ил\Desktop\Математичні картинки\matematika_15.jpg"/>
          <p:cNvPicPr/>
          <p:nvPr/>
        </p:nvPicPr>
        <p:blipFill>
          <a:blip r:embed="rId1"/>
          <a:stretch/>
        </p:blipFill>
        <p:spPr>
          <a:xfrm>
            <a:off x="5940360" y="620640"/>
            <a:ext cx="280836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ил\Desktop\Математичні картинки\rId8.png"/>
          <p:cNvPicPr/>
          <p:nvPr/>
        </p:nvPicPr>
        <p:blipFill>
          <a:blip r:embed="rId2"/>
          <a:stretch/>
        </p:blipFill>
        <p:spPr>
          <a:xfrm>
            <a:off x="6084720" y="4154400"/>
            <a:ext cx="2678400" cy="2121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ил\Desktop\Математичні картинки\1371035199_1344522979.jpg"/>
          <p:cNvPicPr/>
          <p:nvPr/>
        </p:nvPicPr>
        <p:blipFill>
          <a:blip r:embed="rId3"/>
          <a:stretch/>
        </p:blipFill>
        <p:spPr>
          <a:xfrm>
            <a:off x="6084720" y="2276640"/>
            <a:ext cx="2664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ітератур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981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Басанько А.М., Романенко А.О. За лаштунками підручника з математики. Збірник розвивальних задач. - К.: Генеза, 2007. - С.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Балк М.Б., Балк Г.Д. Математика после уроков// Пособие для учителя. – М.: Просвещение, 1971. -  С.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Вишенський В.А. та ін. Київські математичні олімпіади 1984 – 1993.  - К.: Либідь, 1993 р. – С.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Бессараб С. Математичні ігри  // Все для вчителя. -   №1, 2011 .  - С. 7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Карпук В., Уманець Л. Інтелектуально-розвиваюча гра //  Шкільний світ. -   № 4, 2010.  – С. 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нтернет-бібліотека МЦНМО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ilib.mirror0.mccme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627280" y="4941720"/>
            <a:ext cx="5184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ерше повідомл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Фалес Мілетський (близько 625-547р.р. до н.е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Його вважали першим серед славетних «Семи мудреців» Еллади. Механік і астроном, філософ Фалес збагатив тогочасну науку. Саме він познайомив греків із досягненнями єгиптян у геометрії та астроном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тверджують, що Фалес відкрив теорему про вертикальні кути; довів рівність кутів при основі рівнобедреного трикутника; обґрунтував, що кут, який спирається на півколо, прямий; першим описав коло навколо прямокутного трикут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молоді роки Фалес побував у Єгипті.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За легендою він здивував єгипетський жерців, вимірявши висоту піраміди Хеопса за допомогою подібності трикутник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60440" y="757080"/>
            <a:ext cx="23954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  <a:ea typeface="Arial"/>
              </a:rPr>
              <a:t>Друге повідомл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4762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іфагор Самоський (Близько 580-500 р.р.до н.е.) тривалий час проживав у Єгипті й Вав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і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лоні, потім оселився у місті Кротон (Грецька колонія на півдні Італії), заснував там так званий піфагорський союз. Вважається, що саме від нього походить слово «математика» ( грецьке «матема» означає наука, пізнанн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ластивості трикутника зі сторонами 3, 4, 5 були відомі давнім єгиптянам і китайським ученим. Піфагор почав досліджувати інші прямокутні трикутники з цілочисловими сторон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Розглянувши рівнобедрений прямокутний трикутник з одиничними катетами, він побачив, що довжина його гіпотенузи не виражається цілим числом. Так було відкрито ірраціональні чис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Arial"/>
                <a:ea typeface="Arial"/>
              </a:rPr>
              <a:t>Третє повідомле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6560" y="519120"/>
            <a:ext cx="822960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Французький математик П’єр Ферма (1601-1665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на полях «Арифметики» Діафанта (ІІІ ст.) записав твердження, яке потім стали називати великою теоремою Ферма: рівняння 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х</a:t>
            </a:r>
            <a:r>
              <a:rPr b="1" lang="en-US" sz="1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у</a:t>
            </a:r>
            <a:r>
              <a:rPr b="1" lang="en-US" sz="1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= z</a:t>
            </a:r>
            <a:r>
              <a:rPr b="1" lang="en-US" sz="1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не має цілих додатних розв’язків при жодних значеннях п  &gt; 2 . При цьому Ферма дописав: «Я знайшов дивне доведення цього твердження , але поля книги надто вузькі , щоб воно могло на них поміститися». Як виявилося, у цьому простому, на перший погляд, математичному твердженні криється надзвичайна складніс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ідтоді розпочався пошук доведення, адже в інших матеріалах Ферма його так і не виявил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Лише у 1995р. англійський професор математики Принстонського університету (США) Ендрю Уайлс довів Велику теорему. Доведення було надруковано в одному з провідних математичних журналів і зайняло увесь номер – понад сто аркушів. Таким чином, лише в кінці ХХ століття увесь світ визнав, що  на 360 р. свого життя Велика теорема Ферма, яка весь час була гіпотезою, стала доведеною теоремо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66560" y="549360"/>
            <a:ext cx="1800360" cy="230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1866960" cy="2306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7164360" y="242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  <a:ea typeface="Arial"/>
              </a:rPr>
              <a:t>Ендрю Уайл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516720" y="6858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Математична каз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904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Дійові особ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Чит, Арет, Пекар – хлопчики;  Ахмес – учений писець; Піопі – молодший учений писец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Чути пісню єгипетських раб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 повинні ми цілий день тягати зер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ні вже амбри, зерно тече вже через кра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нас все заставляють тяг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 істину із меду наші серц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. Де 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Ар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 У древньому Єгипті, хлоп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сцену виходять писці Ахмес і Піопі. За ними, низько вклоняючись, іде пекар. Ахмес як найстарший поважно всідається на сцені. Піопі стає поруч і насмішкувато дивиться на пека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20840" y="4941720"/>
            <a:ext cx="2782800" cy="16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932360" y="4941720"/>
            <a:ext cx="2497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Продовження каз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765000"/>
            <a:ext cx="8640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екар (звертається до Ахмеса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наймудріший! Писець Піопі підрахував, що я повинен віддати як податок  Фараону 6900 хлібин. Звичайно, я не такий бідний, як селянин, але у мене всього 213 мір зерна, з кожної міри виходить 37 хлібин. Мені здається, що я не зможу виконати такий великий податок,  і тоді Великий і Всемогучий Фараон накаже стратити мене . Писець Піопі стверджує, що зерна на податок  вистачить і ще залишиться на харчування моїй родині, і ми не помремо з голоду. Та його молодість породжує сумніви у моєму серці. Твоя мудрість і справедливість відома. Виріши Ти мою дол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743280" cy="273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31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родовження каз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9334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Ахмес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Якщо хочеш дізнатися, скільки буде 213 раз по 37 то роби так: візьми два рази по 213 – це 426, потім 4 рази по 213 – буде 852, потім 8 раз – 1704, 16 раз - 3408, 32 рази – 6816. Дивись: 32, 4 і1 складають 37. Тепер склади 6816, 852 і 2113. Отримаєш 7881. Отже, віддавши податок Фараону 6900 хлібин, ти залишиш собі 981. Цього вистачить твоїй сім’ї до нового урожаю. (Звертається до Піопі) Ти порахував правиль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ека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адаю до ніг твоїх, Ахмесе, і маю озиратися, щоб виправдати Твої слова. Вибач мою нікчемність, дозволь поставити ще Тобі одне запит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Ахмес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овор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екар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Чому саме так , а не інакше треба розв’язувати  таку складну задач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4520" y="5199120"/>
            <a:ext cx="158904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348000" y="503712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6118200" y="5091120"/>
            <a:ext cx="13683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Продовження казк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іоп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розгнівано) А навіщо це тобі? Чи не сумніваєшся ти у словах Ахмеса? Твоя справа молоти зерно, пекти хліб, варити пиво. Тільки жреці та чиновники Великого Фараона мають право розуміти усі тайни . Що буде з нашим мистецтвом, якщо ми будемо навчати його всякого допитливого пекаря! Ми вивчаємо його багато років, проводимо молодість у храмах за читанням священних свитків , а ти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хмес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 піднімається не поспішаючи і з гідністю) Ти, пекарю, двічі  мав сумніви у правдивості служителів Фараона,  і за це маєш бути покараний палицям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ека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падає на коліна)  О наймудріший, не гнівайся на мене. Спека помутила мій розум (поступово піднімається і швидко  задкує). Чи не хочете Ви освіжитися? Найкраще всього освіжає квас. Мій відомий усій окрузі. Мої раби швидко принесуть Вам великий келих. (Втікає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іопі сміється, а Ахмес дивиться вслід пекарю замрія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06:59:07Z</dcterms:created>
  <dc:creator>ил</dc:creator>
  <dc:description/>
  <dc:language>en-US</dc:language>
  <cp:lastModifiedBy>Admin</cp:lastModifiedBy>
  <dcterms:modified xsi:type="dcterms:W3CDTF">2015-08-28T09:57:02Z</dcterms:modified>
  <cp:revision>132</cp:revision>
  <dc:subject/>
  <dc:title>Математичний конкурс «Шанс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20000000000001024140</vt:lpwstr>
  </property>
</Properties>
</file>