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0.wmf" ContentType="image/x-wmf"/>
  <Override PartName="/ppt/media/image33.wmf" ContentType="image/x-wmf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2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6ED-16F2-4A95-A6D0-D3F7A72489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AA97-E2E5-428C-AA03-789378F9FA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767-E425-4650-A474-D8452CA8C7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B388-F46E-42D5-87C1-C3633C320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0BC-5DA3-40B8-AB92-40CDB292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E21-4B4F-49FE-B374-10F93D7E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E6B-0B0A-4E52-8835-A80D5E04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EF1-7738-45EA-AE30-936ED491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84E-8167-4C59-A63C-82BAAD1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EA2-301C-4741-A8D3-FF2C986A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B76-47B7-47FE-96F0-9E7B8A8D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A47-B145-4DF9-8AF8-B725B917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AA2-F586-418A-8696-EFA9DFF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712-033E-4C8B-AD37-73603ABB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232-2F56-407B-B228-80BA88E6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F7A-802D-47D6-A0F2-2F7F40CD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8221-294E-440B-BD81-8C9AE63DE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атематичний конкурс «Шанс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одзаголовок 2" descr=""/>
          <p:cNvPicPr/>
          <p:nvPr/>
        </p:nvPicPr>
        <p:blipFill>
          <a:blip r:embed="rId1"/>
          <a:stretch/>
        </p:blipFill>
        <p:spPr>
          <a:xfrm>
            <a:off x="4419720" y="4432320"/>
            <a:ext cx="440676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527280" cy="41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1-tub-ua.yandex.net/i?id=2c353091359e75c0347713a5c348414b-53-144&amp;n=21"/>
          <p:cNvPicPr/>
          <p:nvPr/>
        </p:nvPicPr>
        <p:blipFill>
          <a:blip r:embed="rId3"/>
          <a:stretch/>
        </p:blipFill>
        <p:spPr>
          <a:xfrm>
            <a:off x="4427640" y="1773360"/>
            <a:ext cx="4248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ізитна картка кома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404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ивітання команди 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Говорить кожен учасник по одному рядк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Цей конкурс з нетерпінням  доводилось чек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  <a:ea typeface="Arial"/>
              </a:rPr>
              <a:t>Ми хочемо математику всі зн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Тож будемо веселитися, жартув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І перемогу Вам ми не прагнемо відд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ивітання команди 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Говорить кожен учасник по одному рядк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b4e3"/>
                </a:solidFill>
                <a:latin typeface="Arial"/>
                <a:ea typeface="Arial"/>
              </a:rPr>
              <a:t>Журі перед нами та вчителі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Аж серце холоне, як глянеш т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  <a:ea typeface="Arial"/>
              </a:rPr>
              <a:t>Суперник прийшов, щоб виграти пл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Ми знаємо, у нас все буде О’к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622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Другий конкурс «Розмин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Объект 2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4488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І. Знайти невідом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оманда 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товпці діаграми відповідають числам 20, 40, 120, 6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Знайдемо їх середнє арифметичне: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ідповідь: 6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92720" y="4797360"/>
            <a:ext cx="273528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4602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І. Знайти невідом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оманда 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озв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яз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товпці діаграми відповідають числам  80, 120, 100, 2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Знайдемо їх середнє арифметичне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ідповідь: 80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191200" y="5416560"/>
            <a:ext cx="280836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6983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ІІІ. Розв’язати задач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655120" cy="547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6438960" y="4149720"/>
            <a:ext cx="2087640" cy="2327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62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Команда 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584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24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Команда </a:t>
            </a: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54936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1.Софіз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«Будь – яке число дорівнює нулю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Яке б не було число а, правильна рівніс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(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і (-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. Тоді (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(-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r>
              <a:rPr b="0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, а отже, 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-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, або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+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= 0. Але то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0 і через те 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= 0. Де помил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uk-UA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ідповідь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: у рівності (+а)</a:t>
            </a:r>
            <a:r>
              <a:rPr b="0" i="1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= (-а)</a:t>
            </a:r>
            <a:r>
              <a:rPr b="0" i="1" lang="uk-UA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 у правій частині від’ємне число піднесено до квадрату є додатнім числом, тому а= - а не може бу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2. Обчисл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411280" y="3265560"/>
            <a:ext cx="266544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246240" y="4071960"/>
            <a:ext cx="8785080" cy="50940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3" descr=""/>
          <p:cNvPicPr/>
          <p:nvPr/>
        </p:nvPicPr>
        <p:blipFill>
          <a:blip r:embed="rId3"/>
          <a:stretch/>
        </p:blipFill>
        <p:spPr>
          <a:xfrm>
            <a:off x="317520" y="4516560"/>
            <a:ext cx="2101680" cy="384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0" y="5516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67240" y="83520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1693800" y="5622840"/>
            <a:ext cx="7450200" cy="901800"/>
          </a:xfrm>
          <a:prstGeom prst="rect">
            <a:avLst/>
          </a:prstGeom>
          <a:ln w="0">
            <a:noFill/>
          </a:ln>
        </p:spPr>
      </p:pic>
      <p:pic>
        <p:nvPicPr>
          <p:cNvPr id="111" name="TextBox 11" descr=""/>
          <p:cNvPicPr/>
          <p:nvPr/>
        </p:nvPicPr>
        <p:blipFill>
          <a:blip r:embed="rId5"/>
          <a:stretch/>
        </p:blipFill>
        <p:spPr>
          <a:xfrm>
            <a:off x="171360" y="4889520"/>
            <a:ext cx="541188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255600" y="5013360"/>
            <a:ext cx="28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3.Скоротити дрі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Конкурс «Геометрични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оманда Х: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1.Як знайти на шосе місце для станції техобслуговування, щоб відстань від двох населених пунктів була однаков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Відповідь. </a:t>
            </a:r>
            <a:r>
              <a:rPr b="1" lang="en-US" sz="2000" spc="-1" strike="noStrike">
                <a:solidFill>
                  <a:srgbClr val="4f81bd"/>
                </a:solidFill>
                <a:latin typeface="Arial"/>
                <a:ea typeface="Arial"/>
              </a:rPr>
              <a:t>KF-</a:t>
            </a:r>
            <a:r>
              <a:rPr b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серединний перпендикуляр.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2. Як поділити рівносторонній трикутник на три частини так, щоб з них можна було скласти два рівних між собою ромб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Відповідь: провести дві середні лін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0320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2600"/>
            <a:ext cx="83628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Команда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333360"/>
            <a:ext cx="8362800" cy="638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Дві магістралі перетинаються під прямим кутом, всередині якого тече річка. Де побудувати міст через річку, щоб відстані від нього до обох магістралей були однаков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211640" cy="2184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500720" y="1700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Відповідь:на бісектрисі прямого ку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24000" y="3860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2.У трапеції один із кутів відірваний. Як визначити величину її сторі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4114800" y="29750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072"/>
          <p:cNvSpPr/>
          <p:nvPr/>
        </p:nvSpPr>
        <p:spPr>
          <a:xfrm>
            <a:off x="4114800" y="4599000"/>
            <a:ext cx="420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озв’яза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ровести СЕ паралельно АD, тоді АD=СЕ, СD=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Группа 4"/>
          <p:cNvGrpSpPr/>
          <p:nvPr/>
        </p:nvGrpSpPr>
        <p:grpSpPr>
          <a:xfrm>
            <a:off x="331920" y="4427640"/>
            <a:ext cx="3967200" cy="2418120"/>
            <a:chOff x="331920" y="4427640"/>
            <a:chExt cx="3967200" cy="2418120"/>
          </a:xfrm>
        </p:grpSpPr>
        <p:grpSp>
          <p:nvGrpSpPr>
            <p:cNvPr id="124" name="Группа 24"/>
            <p:cNvGrpSpPr/>
            <p:nvPr/>
          </p:nvGrpSpPr>
          <p:grpSpPr>
            <a:xfrm>
              <a:off x="331920" y="4427640"/>
              <a:ext cx="3889080" cy="2418120"/>
              <a:chOff x="331920" y="4427640"/>
              <a:chExt cx="3889080" cy="2418120"/>
            </a:xfrm>
          </p:grpSpPr>
          <p:pic>
            <p:nvPicPr>
              <p:cNvPr id="125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633960" y="4672800"/>
                <a:ext cx="3222000" cy="18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Box 17"/>
              <p:cNvSpPr/>
              <p:nvPr/>
            </p:nvSpPr>
            <p:spPr>
              <a:xfrm>
                <a:off x="34596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TextBox 22"/>
              <p:cNvSpPr/>
              <p:nvPr/>
            </p:nvSpPr>
            <p:spPr>
              <a:xfrm>
                <a:off x="221832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TextBox 46"/>
              <p:cNvSpPr/>
              <p:nvPr/>
            </p:nvSpPr>
            <p:spPr>
              <a:xfrm>
                <a:off x="1006920" y="4427640"/>
                <a:ext cx="54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Box 50"/>
              <p:cNvSpPr/>
              <p:nvPr/>
            </p:nvSpPr>
            <p:spPr>
              <a:xfrm>
                <a:off x="33192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TextBox 51"/>
              <p:cNvSpPr/>
              <p:nvPr/>
            </p:nvSpPr>
            <p:spPr>
              <a:xfrm>
                <a:off x="2204280" y="64774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TextBox 54"/>
              <p:cNvSpPr/>
              <p:nvPr/>
            </p:nvSpPr>
            <p:spPr>
              <a:xfrm>
                <a:off x="3593880" y="6023880"/>
                <a:ext cx="6271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TextBox 3"/>
            <p:cNvSpPr/>
            <p:nvPr/>
          </p:nvSpPr>
          <p:spPr>
            <a:xfrm>
              <a:off x="3907440" y="623664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9"/>
          <p:cNvSpPr/>
          <p:nvPr/>
        </p:nvSpPr>
        <p:spPr>
          <a:xfrm>
            <a:off x="2987640" y="4427640"/>
            <a:ext cx="8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Запитання для вболівальни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Объект 2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84423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Епігра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«Предмет математики настільки серйозний, що не варто пропускати нагоди зробити його трохи цікавішим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Геніальний французький вчений Блез Паска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9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Запитання для вболівальників (про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103320" y="615960"/>
            <a:ext cx="8869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64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курс «Рівняйся на ліде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Объект 2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87962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Конкурс «Лірик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54900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  <a:ea typeface="Arial"/>
              </a:rPr>
              <a:t>Команда 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уди не глянь – кругом во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та наука чарі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саду,  в гаю і в кожнім дом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Царюють ті її зако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 в фізиці вона існує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 в дослідах вона мудру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расу її розкрити зможе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Лірично записати може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рокуємо із нею ми щод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е розлучаємось ні д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C:\Users\ил\Desktop\Математичні картинки\13000_html_m130041fa.png"/>
          <p:cNvPicPr/>
          <p:nvPr/>
        </p:nvPicPr>
        <p:blipFill>
          <a:blip r:embed="rId1"/>
          <a:stretch/>
        </p:blipFill>
        <p:spPr>
          <a:xfrm>
            <a:off x="4859280" y="4365720"/>
            <a:ext cx="41054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05ec0"/>
                </a:solidFill>
                <a:latin typeface="Arial"/>
                <a:ea typeface="Arial"/>
              </a:rPr>
              <a:t>Команда 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 цей безмежний невідомий сві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ак важко все у ньому осягн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оли здається легко – важко вс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 важко – можеш все у мить ти розв’яз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агато є шляхів для подол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ієї невідомої безмежно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и вдумайся, помисли трохи, постражда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 потім полюби її всім серц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о в цьому світі є і я, і 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 математика є і в мені, і у тобі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она існує в кожному куточку цього сві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природі, в побуті, усю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Ти мрій про 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ехай у сні тобі являю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івняння, куби, ігреки, квадр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І ти побачиш,  як усі пробле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Життєві труднощі, незг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Усім разом так легко подол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ил\Desktop\Математичні картинки\matematika_15.jpg"/>
          <p:cNvPicPr/>
          <p:nvPr/>
        </p:nvPicPr>
        <p:blipFill>
          <a:blip r:embed="rId1"/>
          <a:stretch/>
        </p:blipFill>
        <p:spPr>
          <a:xfrm>
            <a:off x="5940360" y="620640"/>
            <a:ext cx="280836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ил\Desktop\Математичні картинки\rId8.png"/>
          <p:cNvPicPr/>
          <p:nvPr/>
        </p:nvPicPr>
        <p:blipFill>
          <a:blip r:embed="rId2"/>
          <a:stretch/>
        </p:blipFill>
        <p:spPr>
          <a:xfrm>
            <a:off x="6084720" y="4154400"/>
            <a:ext cx="2678400" cy="2121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ил\Desktop\Математичні картинки\1371035199_1344522979.jpg"/>
          <p:cNvPicPr/>
          <p:nvPr/>
        </p:nvPicPr>
        <p:blipFill>
          <a:blip r:embed="rId3"/>
          <a:stretch/>
        </p:blipFill>
        <p:spPr>
          <a:xfrm>
            <a:off x="6084720" y="2276640"/>
            <a:ext cx="2664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ітератур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981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Басанько А.М., Романенко А.О. За лаштунками підручника з математики. Збірник розвивальних задач. - К.: Генеза, 2007. - С.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Балк М.Б., Балк Г.Д. Математика после уроков// Пособие для учителя. – М.: Просвещение, 1971. -  С.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Вишенський В.А. та ін. Київські математичні олімпіади 1984 – 1993.  - К.: Либідь, 1993 р. – С.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Бессараб С. Математичні ігри  // Все для вчителя. -   №1, 2011 .  - С. 7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Карпук В., Уманець Л. Інтелектуально-розвиваюча гра //  Шкільний світ. -   № 4, 2010.  – С. 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нтернет-бібліотека МЦНМО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lib.mirror0.mccme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627280" y="4941720"/>
            <a:ext cx="5184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ерше повідомл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Фалес Мілетський (близько 625-547р.р. до н.е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Його вважали першим серед славетних «Семи мудреців» Еллади. Механік і астроном, філософ Фалес збагатив тогочасну науку. Саме він познайомив греків із досягненнями єгиптян у геометрії та астроном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тверджують, що Фалес відкрив теорему про вертикальні кути; довів рівність кутів при основі рівнобедреного трикутника; обґрунтував, що кут, який спирається на півколо, прямий; першим описав коло навколо прямокутного трикут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молоді роки Фалес побував у Єгипті.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За легендою він здивував єгипетський жерців, вимірявши висоту піраміди Хеопса за допомогою подібності трикутник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60440" y="757080"/>
            <a:ext cx="23954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  <a:ea typeface="Arial"/>
              </a:rPr>
              <a:t>Друге повідомл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4762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іфагор Самоський (Близько 580-500 р.р.до н.е.) тривалий час проживав у Єгипті й Вав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  <a:ea typeface="Arial"/>
              </a:rPr>
              <a:t>і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лоні, потім оселився у місті Кротон (Грецька колонія на півдні Італії), заснував там так званий піфагорський союз. Вважається, що саме від нього походить слово «математика» ( грецьке «матема» означає наука, пізнанн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ластивості трикутника зі сторонами 3, 4, 5 були відомі давнім єгиптянам і китайським ученим. Піфагор почав досліджувати інші прямокутні трикутники з цілочисловими сторон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Розглянувши рівнобедрений прямокутний трикутник з одиничними катетами, він побачив, що довжина його гіпотенузи не виражається цілим числом. Так було відкрито ірраціональні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Третє повідомле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6560" y="51912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Французький математик П’єр Ферма (1601-1665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полях «Арифметики» Діафанта (ІІІ ст.) записав твердження, яке потім стали називати великою теоремою Ферма: рівняння 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х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у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 z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не має цілих додатних розв’язків при жодних значеннях п  &gt; 2 . При цьому Ферма дописав: «Я знайшов дивне доведення цього твердження , але поля книги надто вузькі , щоб воно могло на них поміститися». Як виявилося, у цьому простому, на перший погляд, математичному твердженні криється надзвичайна складніс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ідтоді розпочався пошук доведення, адже в інших матеріалах Ферма його так і не виявил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Лише у 1995р. англійський професор математики Принстонського університету (США) Ендрю Уайлс довів Велику теорему. Доведення було надруковано в одному з провідних математичних журналів і зайняло увесь номер – понад сто аркушів. Таким чином, лише в кінці ХХ століття увесь світ визнав, що  на 360 р. свого життя Велика теорема Ферма, яка весь час була гіпотезою, стала доведеною теорем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6560" y="549360"/>
            <a:ext cx="1800360" cy="230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1866960" cy="2306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716436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Ендрю Уайл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516720" y="6858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Математична каз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904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ійові особ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Чит, Арет, Пекар – хлопчики;  Ахмес – учений писець; Піопі – молодший учений писец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Чути пісню єгипетських раб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 повинні ми цілий день тягати зер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ні вже амбри, зерно тече вже через кра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нас все заставляють тяга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 істину із меду наші серц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. Де 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 У древньому Єгипті, хлоп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сцену виходять писці Ахмес і Піопі. За ними, низько вклоняючись, іде пекар. Ахмес як найстарший поважно всідається на сцені. Піопі стає поруч і насмішкувато дивиться на пека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20840" y="4941720"/>
            <a:ext cx="2782800" cy="16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932360" y="4941720"/>
            <a:ext cx="2497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Продовження каз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765000"/>
            <a:ext cx="8640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 (звертається до Ахмеса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наймудріший! Писець Піопі підрахував, що я повинен віддати як податок  Фараону 6900 хлібин. Звичайно, я не такий бідний, як селянин, але у мене всього 213 мір зерна, з кожної міри виходить 37 хлібин. Мені здається, що я не зможу виконати такий великий податок,  і тоді Великий і Всемогучий Фараон накаже стратити мене . Писець Піопі стверджує, що зерна на податок  вистачить і ще залишиться на харчування моїй родині, і ми не помремо з голоду. Та його молодість породжує сумніви у моєму серці. Твоя мудрість і справедливість відома. Виріши Ти мою дол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743280" cy="273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31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одовження 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9334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хмес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Якщо хочеш дізнатися, скільки буде 213 раз по 37 то роби так: візьми два рази по 213 – це 426, потім 4 рази по 213 – буде 852, потім 8 раз – 1704, 16 раз - 3408, 32 рази – 6816. Дивись: 32, 4 і1 складають 37. Тепер склади 6816, 852 і 2113. Отримаєш 7881. Отже, віддавши податок Фараону 6900 хлібин, ти залишиш собі 981. Цього вистачить твоїй сім’ї до нового урожаю. (Звертається до Піопі) Ти порахував прави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адаю до ніг твоїх, Ахмесе, і маю озиратися, щоб виправдати Твої слова. Вибач мою нікчемність, дозволь поставити ще Тобі одне запит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хмес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овор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Чому саме так , а не інакше треба розв’язувати  таку складну задач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4520" y="5199120"/>
            <a:ext cx="158904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348000" y="50371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6118200" y="5091120"/>
            <a:ext cx="13683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Продовження каз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іоп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розгнівано) А навіщо це тобі? Чи не сумніваєшся ти у словах Ахмеса? Твоя справа молоти зерно, пекти хліб, варити пиво. Тільки жреці та чиновники Великого Фараона мають право розуміти усі тайни . Що буде з нашим мистецтвом, якщо ми будемо навчати його всякого допитливого пекаря! Ми вивчаємо його багато років, проводимо молодість у храмах за читанням священних свитків , а ти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хмес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 піднімається не поспішаючи і з гідністю) Ти, пекарю, двічі  мав сумніви у правдивості служителів Фараона,  і за це маєш бути покараний палицям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ека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падає на коліна)  О наймудріший, не гнівайся на мене. Спека помутила мій розум (поступово піднімається і швидко  задкує). Чи не хочете Ви освіжитися? Найкраще всього освіжає квас. Мій відомий усій окрузі. Мої раби швидко принесуть Вам великий келих. (Втікає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іопі сміється, а Ахмес дивиться вслід пекарю замрія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06:59:07Z</dcterms:created>
  <dc:creator>ил</dc:creator>
  <dc:description/>
  <dc:language>en-US</dc:language>
  <cp:lastModifiedBy>Admin</cp:lastModifiedBy>
  <dcterms:modified xsi:type="dcterms:W3CDTF">2015-08-28T09:57:02Z</dcterms:modified>
  <cp:revision>132</cp:revision>
  <dc:subject/>
  <dc:title>Математичний конкурс «Шан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20000000000001024140</vt:lpwstr>
  </property>
</Properties>
</file>