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9E94-7B08-4331-82DA-23EACC1F0D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41567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43EE-9D4D-4093-B14A-D6A2D32DA65B}" type="slidenum">
              <a:rPr b="0" lang="ru-RU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25D-79BC-4597-9534-62B63401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22A-7AB5-4892-AF08-5AC4712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10E-19AA-403B-81F2-D3AFD2A6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8DB-50DA-4714-B75B-BE4A538E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7E8E-5EA8-4BD0-AB4E-12A575FB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541E-1FB9-42F3-B10C-0F9340B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4959-E883-4887-A079-72B55459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758-45E4-4939-B814-D062C6CE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877E-81D2-4535-9018-D6637927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293F-606C-4C48-97B1-AE2B3188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0587-976E-47A6-9B51-DA018BC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AB1-D17C-4FC6-9D12-79A6368E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039E-3052-4749-9636-2D1033E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8C8E-EDB9-4665-A7C5-4472C84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FF5C-C37F-4D1F-9A64-D426CE1C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4DBE-A871-4876-95D1-4752C35C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D67-5F3B-49F7-8C4C-F1CF3B7A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9DAC-F339-463F-9216-E067BBBE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59EA-957E-4B36-8D22-5791BC9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8B35-6C36-4C74-A23C-E3D09099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E0DD-0DA8-45E7-8D8C-275364C1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441D9-03C4-4D9B-A1CE-EC5B5A32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0CF-94EC-40CE-8D40-81BC380C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31E5-BE97-4CA9-B153-B43FD986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0FA0-9955-4E42-8304-A2093AB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64D2-2358-400A-919A-26F9169F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C0B4-C56D-446A-A1B1-70A938FA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8677-239B-4396-A055-EC847BE5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DD0A-84E9-463F-973D-022514D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5C27-A12D-404C-AD6F-006433F7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19D23-515C-4445-BAA9-4C04244C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84F2-B401-4217-83C5-37DE7ACA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0B5D-D368-429C-B2FD-C08E851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4A5-39C4-4D1B-A5D1-FBE2991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E0B3-D748-4269-8167-BF93E6B7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3E6F-27BE-4C6F-B0DF-6CF2C26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3941-85D2-4279-9AAA-C54DAB58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1F03-7E8E-425A-BFDC-6BE695C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2D33-5DF7-458B-99B2-FCA0D74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56A9-2020-4623-B911-7C9EB9B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E9E9-7699-4AB4-AAB9-B38D999C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8BB1-F729-4F65-8142-7F1145B3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AD7E-7959-492F-9C7F-E68296CF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7F7-F9B0-4BFD-9354-F897C33B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6EE-B562-4AC1-B919-9E7C5698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07F-564D-4A3C-9D06-6565F84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C04-0959-4382-8A07-C801813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A1C-237E-4E95-B248-401F28D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234-F181-4F22-8021-2C9AC5D31C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51" name="Picture 11" descr="liam_ball_1.gif"/>
          <p:cNvPicPr/>
          <p:nvPr/>
        </p:nvPicPr>
        <p:blipFill>
          <a:blip r:embed="rId3"/>
          <a:stretch/>
        </p:blipFill>
        <p:spPr>
          <a:xfrm>
            <a:off x="3657600" y="380880"/>
            <a:ext cx="866880" cy="1019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9B39-9602-482A-BF41-EC89287AB5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94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98" name="Picture 6" descr="liam_ball_1.gif"/>
          <p:cNvPicPr/>
          <p:nvPr/>
        </p:nvPicPr>
        <p:blipFill>
          <a:blip r:embed="rId3"/>
          <a:stretch/>
        </p:blipFill>
        <p:spPr>
          <a:xfrm>
            <a:off x="304920" y="4572000"/>
            <a:ext cx="866520" cy="1019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BF3-4B8A-4C82-961B-9C24666026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141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145" name="Picture 8" descr="Bitmap_125.bmp"/>
          <p:cNvPicPr/>
          <p:nvPr/>
        </p:nvPicPr>
        <p:blipFill>
          <a:blip r:embed="rId3"/>
          <a:srcRect l="12011" t="15209" r="13007" b="12818"/>
          <a:stretch/>
        </p:blipFill>
        <p:spPr>
          <a:xfrm>
            <a:off x="914400" y="1371600"/>
            <a:ext cx="5715000" cy="45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1D7-CBC1-460F-94B4-EA0447DE83B6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23e96"/>
                </a:solidFill>
                <a:latin typeface="Arial Black"/>
              </a:rPr>
              <a:t>ІНТЕЛЕКТУАЛЬНИЙ МАРАФОН</a:t>
            </a:r>
            <a:endParaRPr b="0" lang="en-US" sz="20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195" name="Рисунок 6" descr=""/>
          <p:cNvPicPr/>
          <p:nvPr/>
        </p:nvPicPr>
        <p:blipFill>
          <a:blip r:embed="rId1"/>
          <a:srcRect l="2349" t="0" r="2349" b="0"/>
          <a:stretch/>
        </p:blipFill>
        <p:spPr>
          <a:xfrm>
            <a:off x="1143000" y="1752480"/>
            <a:ext cx="5257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52480" y="60530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6eb2"/>
                </a:solidFill>
                <a:latin typeface="Arial"/>
              </a:rPr>
              <a:t>марафон – це біг на тривалі дистанції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23e96"/>
                </a:solidFill>
                <a:latin typeface="Arial Black"/>
              </a:rPr>
              <a:t>«комп'ютер» (від англ. </a:t>
            </a:r>
            <a:r>
              <a:rPr b="1" lang="en-US" sz="1800" spc="-1" strike="noStrike">
                <a:solidFill>
                  <a:srgbClr val="123e96"/>
                </a:solidFill>
                <a:latin typeface="Arial Black"/>
              </a:rPr>
              <a:t>to compute, computer — </a:t>
            </a:r>
            <a:r>
              <a:rPr b="1" lang="ru-RU" sz="1800" spc="-1" strike="noStrike">
                <a:solidFill>
                  <a:srgbClr val="123e96"/>
                </a:solidFill>
                <a:latin typeface="Arial Black"/>
              </a:rPr>
              <a:t>обчислювати, обчислювач) </a:t>
            </a:r>
            <a:endParaRPr b="0" lang="en-US" sz="18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198" name="Рисунок 6" descr=""/>
          <p:cNvPicPr/>
          <p:nvPr/>
        </p:nvPicPr>
        <p:blipFill>
          <a:blip r:embed="rId1"/>
          <a:srcRect l="0" t="12322" r="0" b="12322"/>
          <a:stretch/>
        </p:blipFill>
        <p:spPr>
          <a:xfrm>
            <a:off x="1143000" y="1752480"/>
            <a:ext cx="5257800" cy="3962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52480" y="60530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6eb2"/>
                </a:solidFill>
                <a:latin typeface="Arial"/>
              </a:rPr>
              <a:t>Комп'ютер — програмований електронний пристрій, який приймає дані, обробляє їх, відображує результати у вигляді інформаційних повідомлень і за потреби зберігає дані для їх подальшого використання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3e96"/>
                </a:solidFill>
                <a:latin typeface="Arial Black"/>
              </a:rPr>
              <a:t>Лист – кодограма </a:t>
            </a:r>
            <a:endParaRPr b="0" lang="en-US" sz="20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1"/>
          <a:srcRect l="0" t="13163" r="0" b="13163"/>
          <a:stretch/>
        </p:blipFill>
        <p:spPr>
          <a:xfrm>
            <a:off x="1143000" y="1752480"/>
            <a:ext cx="5257800" cy="3962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2480" y="60530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6eb2"/>
                </a:solidFill>
                <a:latin typeface="Arial"/>
              </a:rPr>
              <a:t>Т Е І Р Н Е Т Н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3 4 1 5 6 7  8  2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46eb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3e96"/>
                </a:solidFill>
                <a:latin typeface="Arial Black"/>
              </a:rPr>
              <a:t>Веб-сайт (англ. </a:t>
            </a: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website, </a:t>
            </a:r>
            <a:r>
              <a:rPr b="0" lang="ru-RU" sz="1400" spc="-1" strike="noStrike">
                <a:solidFill>
                  <a:srgbClr val="123e96"/>
                </a:solidFill>
                <a:latin typeface="Arial Black"/>
              </a:rPr>
              <a:t>місце, майданчик в інтернеті), також сайт (англ. </a:t>
            </a:r>
            <a:r>
              <a:rPr b="0" lang="en-US" sz="1400" spc="-1" strike="noStrike">
                <a:solidFill>
                  <a:srgbClr val="123e96"/>
                </a:solidFill>
                <a:latin typeface="Arial Black"/>
              </a:rPr>
              <a:t>site, </a:t>
            </a:r>
            <a:r>
              <a:rPr b="0" lang="ru-RU" sz="1400" spc="-1" strike="noStrike">
                <a:solidFill>
                  <a:srgbClr val="123e96"/>
                </a:solidFill>
                <a:latin typeface="Arial Black"/>
              </a:rPr>
              <a:t>місце, майданчик) — сукупність веб-сторінок, доступних у Міжмережжі (Інтернеті), які об'єднані як за змістом</a:t>
            </a:r>
            <a:endParaRPr b="0" lang="en-US" sz="1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828440" y="1676520"/>
            <a:ext cx="262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1. Google.com – популярна пошукова система, якою щоденно користуються більше 42% усіх користувачів Інтернету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2. Facebook.com – найпопулярніша соціальна мережа. Сьогодні, тут зареєстровано більше 500 мільйонів користувачів по всьому світу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3. Yahoo.com –пошукова система з великою кількістю сервісів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4. Youtube.com – найпопулярніший відео-сервіс в усьому світі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46eb2"/>
                </a:solidFill>
                <a:latin typeface="Calibri"/>
                <a:ea typeface="Calibri"/>
              </a:rPr>
              <a:t>5. Live.com – ще одна пошукова система, яка належить відомій корпорації Microsof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10160" y="1676520"/>
            <a:ext cx="262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6. Wikipedia.org – найбільша онлайн-енциклопедія в Інтернеті.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7. Blogger.com – сервіс від компанії Google, призначений для створення блогів, які останнім часом набирають великої популярності.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8. Baidu.com – китайська пошукова система.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46eb2"/>
              </a:buClr>
              <a:buFont typeface="Calibri"/>
              <a:buChar char="•"/>
              <a:tabLst>
                <a:tab algn="l" pos="150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46eb2"/>
                </a:solidFill>
                <a:latin typeface="Calibri"/>
                <a:ea typeface="Calibri"/>
              </a:rPr>
              <a:t>9. Msn.com – інтернет-провайдер, яким володіє Microsoft</a:t>
            </a:r>
            <a:endParaRPr b="0" lang="en-US" sz="1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5029200"/>
            <a:ext cx="7772400" cy="1362240"/>
          </a:xfrm>
          <a:prstGeom prst="rect">
            <a:avLst/>
          </a:prstGeom>
          <a:solidFill>
            <a:srgbClr val="bdcfa7"/>
          </a:solidFill>
          <a:ln w="25560">
            <a:solidFill>
              <a:srgbClr val="446eb2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6eb2"/>
                </a:solidFill>
                <a:latin typeface="Arial"/>
              </a:rPr>
              <a:t>КРОСВОРД</a:t>
            </a:r>
            <a:endParaRPr b="0" lang="en-US" sz="40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46eb2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371600" y="1219320"/>
          <a:ext cx="6095880" cy="3343320"/>
        </p:xfrm>
        <a:graphic>
          <a:graphicData uri="http://schemas.openxmlformats.org/drawingml/2006/table">
            <a:tbl>
              <a:tblPr/>
              <a:tblGrid>
                <a:gridCol w="468360"/>
                <a:gridCol w="446040"/>
                <a:gridCol w="492120"/>
                <a:gridCol w="469800"/>
                <a:gridCol w="486000"/>
                <a:gridCol w="45072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1</a:t>
                      </a:r>
                      <a:r>
                        <a:rPr b="1" lang="uk-UA" sz="18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І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bdcfa7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5"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1872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>
                      <a:noFill/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1872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>
                      <a:noFill/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4</a:t>
                      </a:r>
                      <a:r>
                        <a:rPr b="0" lang="uk-UA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    Д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5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6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7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>
                      <a:noFill/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8</a:t>
                      </a: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9</a:t>
                      </a:r>
                      <a:r>
                        <a:rPr b="0" lang="uk-UA" sz="14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М      И</a:t>
                      </a:r>
                      <a:endParaRPr b="0" lang="en-US" sz="14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Ш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487e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46eb2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dcfa7"/>
                      </a:solidFill>
                    </a:lnL>
                    <a:lnR w="5760">
                      <a:solidFill>
                        <a:srgbClr val="bdcfa7"/>
                      </a:solidFill>
                    </a:lnR>
                    <a:lnT w="5760">
                      <a:solidFill>
                        <a:srgbClr val="bdcfa7"/>
                      </a:solidFill>
                    </a:lnT>
                    <a:lnB w="5760">
                      <a:solidFill>
                        <a:srgbClr val="bdcfa7"/>
                      </a:solidFill>
                    </a:lnB>
                    <a:solidFill>
                      <a:srgbClr val="f2f5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46e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Презентации по МХК, шаблоны PowerPoint - http://freeppt.ru/</dc:description>
  <cp:keywords/>
  <dc:language>en-US</dc:language>
  <cp:lastModifiedBy>UserXP</cp:lastModifiedBy>
  <dcterms:modified xsi:type="dcterms:W3CDTF">2012-03-14T21:33:18Z</dcterms:modified>
  <cp:revision>13</cp:revision>
  <dc:subject>Анимированный шаблон</dc:subject>
  <dc:title>Blue-Gr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