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A76E-1894-4EBA-B6E4-0FFC67D86A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41567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A2B1-CA4E-47CD-BB84-2F95CCA5998E}" type="slidenum">
              <a:rPr b="0" lang="ru-RU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6C4-63F1-4C8B-B6A5-3DD46329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442-CF0E-45EB-8E90-F59E26D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D12-38FB-49E5-8A1A-45140D41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1A5-849B-4AF7-9E47-B1E7B024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B346-E547-47F2-95A7-DDE1D26B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97ED-F272-4153-9414-43119527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4A1E-C63F-44FB-A162-4A4AD12F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CF2-1364-449A-95F1-8916D8C1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DC61-7D62-453F-BD31-6C6DE9A6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BE3-8EA8-4428-B8E2-0FCD4918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C53A-309D-4C35-A3AC-98D1EC4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3C2-E35E-4131-B799-FB751F4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7515-241D-4ACD-9B40-21CDB21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8C1B-C05D-463B-B8BF-78E3EC42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E177-BE3C-4103-BA4C-918DF52F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B023-CB1D-443D-8493-10119B04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041B-E02B-4865-BB11-334C0FAB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2519-8EAC-4EF9-856B-6B78A772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8466-D40D-43DB-9E6F-1E5CC7E4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6E9B-3634-47CE-88CA-1ED1B547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2378-4B98-49D9-B344-965BDC67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C970-1558-404E-BEC6-04D87228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EF5-D642-434B-9C73-2FADEF27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0370-DE4C-44E0-AA38-E5C497BB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3E29-11FA-49DD-94E4-44BFD0FD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C7C2-DAD6-4FEE-9234-7614573D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AC1C-B750-4D76-ADC0-505CE91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44B0-6ACD-469F-9CE7-A04B3F5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FCC9-1A6F-4EA5-B9A2-553AC6B7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98FC-D1B8-4C50-B56F-5AE5659A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77C0-5524-4C5B-B30A-671460C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1803-3328-4AC5-AD26-91ACC61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49AE-002A-40CB-9DF7-99F946CE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C7B-9E09-40C5-9686-B3137DE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B366-35EB-4B65-A671-68D99EF6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17F7-8EA6-4E74-9D0B-8FBC9B6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6B8E-B0DB-4F34-A7C2-55505915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A8EF-5533-4490-9206-E4210D61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623E-E528-40D3-9567-2327661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BF86-81BC-465F-9FCD-FF8FF12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7130-383A-4AA2-958C-C44237B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F9BC-83CD-4E03-80EE-C70EB9F4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63DD-F259-42D5-AE9A-480FC484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193-2D51-4091-9CA7-9D514309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D3D-E886-4F9C-A431-FD7D8DF7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9AB-47AB-42E1-9D68-79128DCC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DD9-CBB3-4D6A-8459-83C7CFAF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FCC-9C85-4470-AB23-2C4C853D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DA8-BC44-4BBC-BA51-D79D65C932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51" name="Picture 11" descr="liam_ball_1.gif"/>
          <p:cNvPicPr/>
          <p:nvPr/>
        </p:nvPicPr>
        <p:blipFill>
          <a:blip r:embed="rId3"/>
          <a:stretch/>
        </p:blipFill>
        <p:spPr>
          <a:xfrm>
            <a:off x="3657600" y="380880"/>
            <a:ext cx="866880" cy="1019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7F60-7D37-4E05-800E-6E049B04D4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94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98" name="Picture 6" descr="liam_ball_1.gif"/>
          <p:cNvPicPr/>
          <p:nvPr/>
        </p:nvPicPr>
        <p:blipFill>
          <a:blip r:embed="rId3"/>
          <a:stretch/>
        </p:blipFill>
        <p:spPr>
          <a:xfrm>
            <a:off x="304920" y="4572000"/>
            <a:ext cx="866520" cy="1019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B8AB-035B-40D1-83A7-AEA5018E70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141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145" name="Picture 8" descr="Bitmap_125.bmp"/>
          <p:cNvPicPr/>
          <p:nvPr/>
        </p:nvPicPr>
        <p:blipFill>
          <a:blip r:embed="rId3"/>
          <a:srcRect l="12011" t="15209" r="13007" b="12818"/>
          <a:stretch/>
        </p:blipFill>
        <p:spPr>
          <a:xfrm>
            <a:off x="914400" y="1371600"/>
            <a:ext cx="5715000" cy="45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18F8-1B76-4E2E-8A28-AE4634190386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23e96"/>
                </a:solidFill>
                <a:latin typeface="Arial Black"/>
              </a:rPr>
              <a:t>ІНТЕЛЕКТУАЛЬНИЙ МАРАФОН</a:t>
            </a:r>
            <a:endParaRPr b="0" lang="en-US" sz="20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195" name="Рисунок 6" descr=""/>
          <p:cNvPicPr/>
          <p:nvPr/>
        </p:nvPicPr>
        <p:blipFill>
          <a:blip r:embed="rId1"/>
          <a:srcRect l="2349" t="0" r="2349" b="0"/>
          <a:stretch/>
        </p:blipFill>
        <p:spPr>
          <a:xfrm>
            <a:off x="1143000" y="1752480"/>
            <a:ext cx="5257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52480" y="60530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6eb2"/>
                </a:solidFill>
                <a:latin typeface="Arial"/>
              </a:rPr>
              <a:t>марафон – це біг на тривалі дистанції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23e96"/>
                </a:solidFill>
                <a:latin typeface="Arial Black"/>
              </a:rPr>
              <a:t>«комп'ютер» (від англ. </a:t>
            </a:r>
            <a:r>
              <a:rPr b="1" lang="en-US" sz="1800" spc="-1" strike="noStrike">
                <a:solidFill>
                  <a:srgbClr val="123e96"/>
                </a:solidFill>
                <a:latin typeface="Arial Black"/>
              </a:rPr>
              <a:t>to compute, computer — </a:t>
            </a:r>
            <a:r>
              <a:rPr b="1" lang="ru-RU" sz="1800" spc="-1" strike="noStrike">
                <a:solidFill>
                  <a:srgbClr val="123e96"/>
                </a:solidFill>
                <a:latin typeface="Arial Black"/>
              </a:rPr>
              <a:t>обчислювати, обчислювач) </a:t>
            </a:r>
            <a:endParaRPr b="0" lang="en-US" sz="18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198" name="Рисунок 6" descr=""/>
          <p:cNvPicPr/>
          <p:nvPr/>
        </p:nvPicPr>
        <p:blipFill>
          <a:blip r:embed="rId1"/>
          <a:srcRect l="0" t="12322" r="0" b="12322"/>
          <a:stretch/>
        </p:blipFill>
        <p:spPr>
          <a:xfrm>
            <a:off x="1143000" y="1752480"/>
            <a:ext cx="5257800" cy="3962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52480" y="60530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6eb2"/>
                </a:solidFill>
                <a:latin typeface="Arial"/>
              </a:rPr>
              <a:t>Комп'ютер — програмований електронний пристрій, який приймає дані, обробляє їх, відображує результати у вигляді інформаційних повідомлень і за потреби зберігає дані для їх подальшого використання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3e96"/>
                </a:solidFill>
                <a:latin typeface="Arial Black"/>
              </a:rPr>
              <a:t>Лист – кодограма </a:t>
            </a:r>
            <a:endParaRPr b="0" lang="en-US" sz="20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1"/>
          <a:srcRect l="0" t="13163" r="0" b="13163"/>
          <a:stretch/>
        </p:blipFill>
        <p:spPr>
          <a:xfrm>
            <a:off x="1143000" y="1752480"/>
            <a:ext cx="5257800" cy="3962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2480" y="60530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6eb2"/>
                </a:solidFill>
                <a:latin typeface="Arial"/>
              </a:rPr>
              <a:t>Т Е І Р Н Е Т Н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3 4 1 5 6 7  8  2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3e96"/>
                </a:solidFill>
                <a:latin typeface="Arial Black"/>
              </a:rPr>
              <a:t>Веб-сайт (англ. </a:t>
            </a: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website, </a:t>
            </a:r>
            <a:r>
              <a:rPr b="0" lang="ru-RU" sz="1400" spc="-1" strike="noStrike">
                <a:solidFill>
                  <a:srgbClr val="123e96"/>
                </a:solidFill>
                <a:latin typeface="Arial Black"/>
              </a:rPr>
              <a:t>місце, майданчик в інтернеті), також сайт (англ. </a:t>
            </a:r>
            <a:r>
              <a:rPr b="0" lang="en-US" sz="1400" spc="-1" strike="noStrike">
                <a:solidFill>
                  <a:srgbClr val="123e96"/>
                </a:solidFill>
                <a:latin typeface="Arial Black"/>
              </a:rPr>
              <a:t>site, </a:t>
            </a:r>
            <a:r>
              <a:rPr b="0" lang="ru-RU" sz="1400" spc="-1" strike="noStrike">
                <a:solidFill>
                  <a:srgbClr val="123e96"/>
                </a:solidFill>
                <a:latin typeface="Arial Black"/>
              </a:rPr>
              <a:t>місце, майданчик) — сукупність веб-сторінок, доступних у Міжмережжі (Інтернеті), які об'єднані як за змістом</a:t>
            </a:r>
            <a:endParaRPr b="0" lang="en-US" sz="1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828440" y="1676520"/>
            <a:ext cx="262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1. Google.com – популярна пошукова система, якою щоденно користуються більше 42% усіх користувачів Інтернету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2. Facebook.com – найпопулярніша соціальна мережа. Сьогодні, тут зареєстровано більше 500 мільйонів користувачів по всьому світу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3. Yahoo.com –пошукова система з великою кількістю сервісів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4. Youtube.com – найпопулярніший відео-сервіс в усьому світі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5. Live.com – ще одна пошукова система, яка належить відомій корпорації Microsof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10160" y="1676520"/>
            <a:ext cx="262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6. Wikipedia.org – найбільша онлайн-енциклопедія в Інтернеті.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7. Blogger.com – сервіс від компанії Google, призначений для створення блогів, які останнім часом набирають великої популярності.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8. Baidu.com – китайська пошукова система.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9. Msn.com – інтернет-провайдер, яким володіє Microsoft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5029200"/>
            <a:ext cx="7772400" cy="1362240"/>
          </a:xfrm>
          <a:prstGeom prst="rect">
            <a:avLst/>
          </a:prstGeom>
          <a:solidFill>
            <a:srgbClr val="bdcfa7"/>
          </a:solidFill>
          <a:ln w="25560">
            <a:solidFill>
              <a:srgbClr val="446eb2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6eb2"/>
                </a:solidFill>
                <a:latin typeface="Arial"/>
              </a:rPr>
              <a:t>КРОСВОРД</a:t>
            </a:r>
            <a:endParaRPr b="0" lang="en-US" sz="40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46eb2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371600" y="1219320"/>
          <a:ext cx="6095880" cy="3343320"/>
        </p:xfrm>
        <a:graphic>
          <a:graphicData uri="http://schemas.openxmlformats.org/drawingml/2006/table">
            <a:tbl>
              <a:tblPr/>
              <a:tblGrid>
                <a:gridCol w="468360"/>
                <a:gridCol w="446040"/>
                <a:gridCol w="492120"/>
                <a:gridCol w="469800"/>
                <a:gridCol w="486000"/>
                <a:gridCol w="45072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1</a:t>
                      </a:r>
                      <a:r>
                        <a:rPr b="1" lang="uk-UA" sz="18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І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5"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>
                      <a:noFill/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>
                      <a:noFill/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4</a:t>
                      </a:r>
                      <a:r>
                        <a:rPr b="0" lang="uk-UA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    Д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5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6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7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>
                      <a:noFill/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8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9</a:t>
                      </a:r>
                      <a:r>
                        <a:rPr b="0" lang="uk-UA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М      И</a:t>
                      </a:r>
                      <a:endParaRPr b="0" lang="en-US" sz="14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Ш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Презентации по МХК, шаблоны PowerPoint - http://freeppt.ru/</dc:description>
  <cp:keywords/>
  <dc:language>en-US</dc:language>
  <cp:lastModifiedBy>UserXP</cp:lastModifiedBy>
  <dcterms:modified xsi:type="dcterms:W3CDTF">2012-03-14T21:33:18Z</dcterms:modified>
  <cp:revision>13</cp:revision>
  <dc:subject>Анимированный шаблон</dc:subject>
  <dc:title>Blue-Gr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